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E0F7-56D6-4725-B2E6-46C9C6C1B59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3 février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3EC78-B2E7-4365-8DDC-DFEB71FAA6E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Espace réservé du numéro de diapositive 3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fld id="{956D90BD-728A-4CFA-BFD9-40A573C23687}" type="slidenum">
              <a:rPr b="0" lang="fr-FR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3556-A0C6-40E9-AEC0-0761F4B7F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9CEE-4163-4A63-9713-EE8B0C4A9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B266-0C51-4C19-881A-C4ECE7751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B345-5253-44C4-AAD9-6AF5FD5B1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92575-F52E-4573-87E2-C991F91E0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72D3F-3E8E-4329-BDAD-C666A41FE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B24D0-115C-40D3-8D3D-67956BB8D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932B7-7336-4350-B363-63E357C0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06DC7-8CEA-48E7-BEF3-9666EA5EC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BA78E-A760-49D9-88CA-025C8A446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F8C22-83D7-4EF9-BB89-8BC6E4D5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C5E2-2FA5-40BB-89AD-D0C558BC7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817E9-2FB3-4133-81DA-2DF3C70F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9D18E-2363-467D-880A-0F4713BA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B537D-C437-4139-8B62-72E16C9D4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5DEA9-F2D9-4C50-967D-61655EC9C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A08D8-5027-4113-867D-1FF263111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9A591-A32C-4E34-B1F8-23F93AC34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4F43A-FCB8-4D46-9160-586554B6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D333F-9FE5-4B7A-A573-5852CCAD9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0C1E8-E592-4028-A0F5-03139E444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5E15D-8E8B-462B-BBE4-EE30D9F7A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B65C-2820-4A05-A599-EE29B3D0A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C05B0-C968-4A86-925C-8AF312214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49728-2643-4149-83AA-84E0444B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A6FC4-EC16-4A10-9BD1-EA3F00A7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76D0E-D9FA-4086-9A17-D97F5F9D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33769-54FA-4BEF-B0CB-8EE328AB9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01AA2-5E3E-4F11-B937-406B64177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4530D-B1B4-4E06-B436-4569A85B3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427A-C37F-4592-BB3C-9932087F5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5197-6EEA-436C-872A-6FD0D1B47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76C4-518C-4D9F-855D-39E1A2580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85B1-45C2-45E7-95A5-2AC453A6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A5A8-4BDA-45B7-B6F0-A750537D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6BA4-6902-4CEE-A32D-72C0E589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0" y="6453000"/>
            <a:ext cx="11620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10 mai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484000" y="6381360"/>
            <a:ext cx="403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Norbert Perrot - Doyen du groupe S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09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698BC-91E3-460F-B542-672E097552E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dt" idx="4"/>
          </p:nvPr>
        </p:nvSpPr>
        <p:spPr>
          <a:xfrm>
            <a:off x="-360" y="6453360"/>
            <a:ext cx="17859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10 mai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5"/>
          </p:nvPr>
        </p:nvSpPr>
        <p:spPr>
          <a:xfrm>
            <a:off x="2285640" y="6381360"/>
            <a:ext cx="4357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Norbert Perrot - Doyen du groupe S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6"/>
          </p:nvPr>
        </p:nvSpPr>
        <p:spPr>
          <a:xfrm>
            <a:off x="7009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BB451-1613-4D3C-B5E7-E23F7A1CAD0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"/>
          <p:cNvPicPr/>
          <p:nvPr/>
        </p:nvPicPr>
        <p:blipFill>
          <a:blip r:embed="rId2"/>
          <a:stretch/>
        </p:blipFill>
        <p:spPr>
          <a:xfrm>
            <a:off x="460440" y="260280"/>
            <a:ext cx="1252440" cy="1170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dt" idx="7"/>
          </p:nvPr>
        </p:nvSpPr>
        <p:spPr>
          <a:xfrm>
            <a:off x="0" y="6453360"/>
            <a:ext cx="15717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10 mai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ftr" idx="8"/>
          </p:nvPr>
        </p:nvSpPr>
        <p:spPr>
          <a:xfrm>
            <a:off x="1643040" y="6381360"/>
            <a:ext cx="5572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Norbert Perrot - Doyen du groupe S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Num" idx="9"/>
          </p:nvPr>
        </p:nvSpPr>
        <p:spPr>
          <a:xfrm>
            <a:off x="7009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796E4-540E-4259-89DA-E178B8D4520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25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Espace réservé du pied de page 2"/>
          <p:cNvSpPr/>
          <p:nvPr/>
        </p:nvSpPr>
        <p:spPr>
          <a:xfrm>
            <a:off x="2214720" y="6524640"/>
            <a:ext cx="5572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orbert Perrot - Doyen du groupe 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Espace réservé du numéro de diapositive 3"/>
          <p:cNvSpPr/>
          <p:nvPr/>
        </p:nvSpPr>
        <p:spPr>
          <a:xfrm>
            <a:off x="7010280" y="6595920"/>
            <a:ext cx="21337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75007-3BB2-414F-B75C-85936ABDEAE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438120" y="318960"/>
            <a:ext cx="7983720" cy="20815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8"/>
          <p:cNvSpPr/>
          <p:nvPr/>
        </p:nvSpPr>
        <p:spPr>
          <a:xfrm>
            <a:off x="428760" y="2643120"/>
            <a:ext cx="8358120" cy="29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Plan National de 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CIT et 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Paris – 10 mai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e la date 1"/>
          <p:cNvSpPr/>
          <p:nvPr/>
        </p:nvSpPr>
        <p:spPr>
          <a:xfrm>
            <a:off x="0" y="6453360"/>
            <a:ext cx="15717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10 mai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Espace réservé de la date 1"/>
          <p:cNvSpPr/>
          <p:nvPr/>
        </p:nvSpPr>
        <p:spPr>
          <a:xfrm>
            <a:off x="0" y="6453360"/>
            <a:ext cx="15717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10 mai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Espace réservé du pied de page 2"/>
          <p:cNvSpPr/>
          <p:nvPr/>
        </p:nvSpPr>
        <p:spPr>
          <a:xfrm>
            <a:off x="1643040" y="6381720"/>
            <a:ext cx="5572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orbert Perrot - Doyen du groupe 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Espace réservé du numéro de diapositive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87926-76A5-4991-81D3-98542C1CDD5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ZoneTexte 4"/>
          <p:cNvSpPr/>
          <p:nvPr/>
        </p:nvSpPr>
        <p:spPr>
          <a:xfrm>
            <a:off x="500040" y="1785960"/>
            <a:ext cx="828684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Comment s’effectue la structuration des connaissanc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Comment les compétences sont-elles évalué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Comment réagissent les élèves et la parents sur l’absence de notation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e la date 1"/>
          <p:cNvSpPr/>
          <p:nvPr/>
        </p:nvSpPr>
        <p:spPr>
          <a:xfrm>
            <a:off x="0" y="6453360"/>
            <a:ext cx="15717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10 mai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Espace réservé du pied de page 2"/>
          <p:cNvSpPr/>
          <p:nvPr/>
        </p:nvSpPr>
        <p:spPr>
          <a:xfrm>
            <a:off x="1643040" y="6381720"/>
            <a:ext cx="5572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orbert Perrot - Doyen du groupe 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Espace réservé du numéro de diapositive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44DDD-B791-4D43-8C97-C4F0BC391C3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285840" y="2286000"/>
            <a:ext cx="847728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Des collaborations pluridisciplinaires ou l’intervention de professionnels et d’experts ont-elles été mises en plac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5" descr=""/>
          <p:cNvPicPr/>
          <p:nvPr/>
        </p:nvPicPr>
        <p:blipFill>
          <a:blip r:embed="rId1"/>
          <a:stretch/>
        </p:blipFill>
        <p:spPr>
          <a:xfrm>
            <a:off x="460440" y="260280"/>
            <a:ext cx="125244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Espace réservé de la date 1"/>
          <p:cNvSpPr/>
          <p:nvPr/>
        </p:nvSpPr>
        <p:spPr>
          <a:xfrm>
            <a:off x="0" y="6453360"/>
            <a:ext cx="15717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10 mai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Espace réservé du pied de page 2"/>
          <p:cNvSpPr/>
          <p:nvPr/>
        </p:nvSpPr>
        <p:spPr>
          <a:xfrm>
            <a:off x="1643040" y="6381720"/>
            <a:ext cx="5572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orbert Perrot - Doyen du groupe 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space réservé du numéro de diapositive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EAD2B-7A19-4ABE-9E61-B9A39FB44DB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ZoneTexte 4"/>
          <p:cNvSpPr/>
          <p:nvPr/>
        </p:nvSpPr>
        <p:spPr>
          <a:xfrm>
            <a:off x="285840" y="1785960"/>
            <a:ext cx="8572320" cy="49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Est-il pertinent de découpler les activités de CIT et de SI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Est-il pertinent de s’obliger les élèves de faire CIT et S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Est-il pertinent d’implanter CIT et SI dans tous les lycé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Quelles sont les dynamiques d’établissemen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Espace réservé de la date 1"/>
          <p:cNvSpPr/>
          <p:nvPr/>
        </p:nvSpPr>
        <p:spPr>
          <a:xfrm>
            <a:off x="0" y="6453360"/>
            <a:ext cx="15717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10 mai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Espace réservé du pied de page 2"/>
          <p:cNvSpPr/>
          <p:nvPr/>
        </p:nvSpPr>
        <p:spPr>
          <a:xfrm>
            <a:off x="1643040" y="6381720"/>
            <a:ext cx="5572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orbert Perrot - Doyen du groupe 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Espace réservé du numéro de diapositive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D1D15-7E9A-45BB-B065-A25C115F9AF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ZoneTexte 4"/>
          <p:cNvSpPr/>
          <p:nvPr/>
        </p:nvSpPr>
        <p:spPr>
          <a:xfrm>
            <a:off x="500040" y="1714680"/>
            <a:ext cx="8215200" cy="39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Comment réagissent les élèves devant les enseignements d’exploration en général et devant ceux de CIT et de SI en particulier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Les enseignements d’exploration CIT et SI auront-ils une influence sur l’orientation en  STI2D ou en S-SI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e la date 1"/>
          <p:cNvSpPr/>
          <p:nvPr/>
        </p:nvSpPr>
        <p:spPr>
          <a:xfrm>
            <a:off x="0" y="6453360"/>
            <a:ext cx="15717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10 mai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Espace réservé du pied de page 2"/>
          <p:cNvSpPr/>
          <p:nvPr/>
        </p:nvSpPr>
        <p:spPr>
          <a:xfrm>
            <a:off x="1643040" y="6381720"/>
            <a:ext cx="5572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orbert Perrot - Doyen du groupe 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Espace réservé du numéro de diapositive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9808E-CC6B-432B-8A80-CF9C7E4D72B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ZoneTexte 4"/>
          <p:cNvSpPr/>
          <p:nvPr/>
        </p:nvSpPr>
        <p:spPr>
          <a:xfrm>
            <a:off x="428760" y="1428840"/>
            <a:ext cx="850104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333399"/>
                </a:solidFill>
                <a:latin typeface="Arial"/>
              </a:rPr>
              <a:t>1.Faire découvrir aux élèves des champs disciplinaires nouveaux (connaissances et méthodes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333399"/>
                </a:solidFill>
                <a:latin typeface="Arial"/>
              </a:rPr>
              <a:t>2. Leur apprendre à identifier les activités professionnelles auxquelles ces cursus peuvent conduire 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333399"/>
                </a:solidFill>
                <a:latin typeface="Arial"/>
              </a:rPr>
              <a:t>3. Les préparer à choisir une série en première et leur donner des éléments d'information sur les filières de l'enseignement supérieu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ZoneTexte 5"/>
          <p:cNvSpPr/>
          <p:nvPr/>
        </p:nvSpPr>
        <p:spPr>
          <a:xfrm>
            <a:off x="3571920" y="285840"/>
            <a:ext cx="414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99"/>
                </a:solidFill>
                <a:latin typeface="Arial"/>
              </a:rPr>
              <a:t>Objectifs des 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Espace réservé de la date 1"/>
          <p:cNvSpPr/>
          <p:nvPr/>
        </p:nvSpPr>
        <p:spPr>
          <a:xfrm>
            <a:off x="0" y="6453360"/>
            <a:ext cx="15717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10 mai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Espace réservé du pied de page 2"/>
          <p:cNvSpPr/>
          <p:nvPr/>
        </p:nvSpPr>
        <p:spPr>
          <a:xfrm>
            <a:off x="1643040" y="6381720"/>
            <a:ext cx="5572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orbert Perrot - Doyen du groupe 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Espace réservé du numéro de diapositive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9A8C9-C709-4AFA-AA47-27480F20E12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460440" y="260280"/>
            <a:ext cx="1252440" cy="1170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500040" y="1857240"/>
            <a:ext cx="8350200" cy="39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Création et Innovation Technologiques (C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Pourquoi et comment un produit s’inscrit dans une évolution technologique, à partir de quelles découvertes, inventions et innovations technologiques il est apparu et comment une démarche de créativité est indispensable au développement des innovations technologiques 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ZoneTexte 6"/>
          <p:cNvSpPr/>
          <p:nvPr/>
        </p:nvSpPr>
        <p:spPr>
          <a:xfrm>
            <a:off x="2286000" y="357120"/>
            <a:ext cx="6500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99"/>
                </a:solidFill>
                <a:latin typeface="Arial"/>
              </a:rPr>
              <a:t>Rappels sur les objectifs des EE CIT et 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Espace réservé de la date 1"/>
          <p:cNvSpPr/>
          <p:nvPr/>
        </p:nvSpPr>
        <p:spPr>
          <a:xfrm>
            <a:off x="0" y="6453360"/>
            <a:ext cx="15717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10 mai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space réservé du pied de page 2"/>
          <p:cNvSpPr/>
          <p:nvPr/>
        </p:nvSpPr>
        <p:spPr>
          <a:xfrm>
            <a:off x="1643040" y="6381720"/>
            <a:ext cx="5572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orbert Perrot - Doyen du groupe 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space réservé du numéro de diapositive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079F5-0BE8-434A-8271-37DF7FE8175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628560" y="1371600"/>
            <a:ext cx="8191440" cy="49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Sciences de l’Ingénieur (S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Pourquoi et comment un produit, à un moment donné, est conçu et réalisé, à quel besoin il répond et quel est son impact dans la société et sur notre environnement 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Ils sont différents, indépendants mais complémentaires ; ils permettent, l’un comme l’autre, d’explorer les poursuites d’études en voie scientifique ou technologiq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460440" y="260280"/>
            <a:ext cx="125244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Espace réservé de la date 1"/>
          <p:cNvSpPr/>
          <p:nvPr/>
        </p:nvSpPr>
        <p:spPr>
          <a:xfrm>
            <a:off x="0" y="6453360"/>
            <a:ext cx="15717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10 mai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pied de page 2"/>
          <p:cNvSpPr/>
          <p:nvPr/>
        </p:nvSpPr>
        <p:spPr>
          <a:xfrm>
            <a:off x="1643040" y="6381720"/>
            <a:ext cx="5572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orbert Perrot - Doyen du groupe 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Espace réservé du numéro de diapositive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25965-A1B9-4544-AEAD-0869700EB6C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e 37"/>
          <p:cNvGrpSpPr/>
          <p:nvPr/>
        </p:nvGrpSpPr>
        <p:grpSpPr>
          <a:xfrm>
            <a:off x="1209600" y="141120"/>
            <a:ext cx="6843960" cy="6647040"/>
            <a:chOff x="1209600" y="141120"/>
            <a:chExt cx="6843960" cy="6647040"/>
          </a:xfrm>
        </p:grpSpPr>
        <p:grpSp>
          <p:nvGrpSpPr>
            <p:cNvPr id="152" name="Ellipse 3"/>
            <p:cNvGrpSpPr/>
            <p:nvPr/>
          </p:nvGrpSpPr>
          <p:grpSpPr>
            <a:xfrm>
              <a:off x="1252080" y="171000"/>
              <a:ext cx="6673680" cy="6617160"/>
              <a:chOff x="1252080" y="171000"/>
              <a:chExt cx="6673680" cy="6617160"/>
            </a:xfrm>
          </p:grpSpPr>
          <p:pic>
            <p:nvPicPr>
              <p:cNvPr id="153" name="Ellips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1252080" y="171000"/>
                <a:ext cx="6673680" cy="661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" name=""/>
              <p:cNvSpPr/>
              <p:nvPr/>
            </p:nvSpPr>
            <p:spPr>
              <a:xfrm>
                <a:off x="2242440" y="1153080"/>
                <a:ext cx="4691520" cy="46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Ellipse 26"/>
            <p:cNvSpPr/>
            <p:nvPr/>
          </p:nvSpPr>
          <p:spPr>
            <a:xfrm>
              <a:off x="4313880" y="5019120"/>
              <a:ext cx="1569960" cy="1554840"/>
            </a:xfrm>
            <a:prstGeom prst="ellipse">
              <a:avLst/>
            </a:prstGeom>
            <a:solidFill>
              <a:srgbClr val="2d2d8a">
                <a:alpha val="6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Ellipse 27"/>
            <p:cNvSpPr/>
            <p:nvPr/>
          </p:nvSpPr>
          <p:spPr>
            <a:xfrm>
              <a:off x="6069240" y="3231360"/>
              <a:ext cx="1569960" cy="1554840"/>
            </a:xfrm>
            <a:prstGeom prst="ellipse">
              <a:avLst/>
            </a:prstGeom>
            <a:solidFill>
              <a:srgbClr val="2d2d8a">
                <a:alpha val="6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Ellipse 28"/>
            <p:cNvSpPr/>
            <p:nvPr/>
          </p:nvSpPr>
          <p:spPr>
            <a:xfrm>
              <a:off x="5259960" y="912960"/>
              <a:ext cx="1569960" cy="1554840"/>
            </a:xfrm>
            <a:prstGeom prst="ellipse">
              <a:avLst/>
            </a:prstGeom>
            <a:solidFill>
              <a:srgbClr val="2d2d8a">
                <a:alpha val="6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Ellipse 24"/>
            <p:cNvSpPr/>
            <p:nvPr/>
          </p:nvSpPr>
          <p:spPr>
            <a:xfrm>
              <a:off x="2118240" y="4401720"/>
              <a:ext cx="1568160" cy="1554840"/>
            </a:xfrm>
            <a:prstGeom prst="ellipse">
              <a:avLst/>
            </a:prstGeom>
            <a:solidFill>
              <a:srgbClr val="2d2d8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Ellipse 33"/>
            <p:cNvGrpSpPr/>
            <p:nvPr/>
          </p:nvGrpSpPr>
          <p:grpSpPr>
            <a:xfrm>
              <a:off x="3046680" y="2071080"/>
              <a:ext cx="2962800" cy="2931480"/>
              <a:chOff x="3046680" y="2071080"/>
              <a:chExt cx="2962800" cy="2931480"/>
            </a:xfrm>
          </p:grpSpPr>
          <p:pic>
            <p:nvPicPr>
              <p:cNvPr id="160" name="Ellipse 33" descr=""/>
              <p:cNvPicPr/>
              <p:nvPr/>
            </p:nvPicPr>
            <p:blipFill>
              <a:blip r:embed="rId2"/>
              <a:stretch/>
            </p:blipFill>
            <p:spPr>
              <a:xfrm>
                <a:off x="3046680" y="2071080"/>
                <a:ext cx="2962800" cy="29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1" name=""/>
              <p:cNvSpPr/>
              <p:nvPr/>
            </p:nvSpPr>
            <p:spPr>
              <a:xfrm>
                <a:off x="3494880" y="2510640"/>
                <a:ext cx="2067120" cy="204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fr-FR" sz="2000" spc="-1" strike="noStrike">
                    <a:solidFill>
                      <a:srgbClr val="ffffff"/>
                    </a:solidFill>
                    <a:latin typeface="Calibri"/>
                    <a:ea typeface="ＭＳ Ｐゴシック"/>
                  </a:rPr>
                  <a:t>Pour comprendre comment la créativité et l’innovation sont les moteurs de l’évolution technologiqu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2" name="ZoneTexte 34" descr=""/>
            <p:cNvPicPr/>
            <p:nvPr/>
          </p:nvPicPr>
          <p:blipFill>
            <a:blip r:embed="rId3"/>
            <a:stretch/>
          </p:blipFill>
          <p:spPr>
            <a:xfrm>
              <a:off x="2845800" y="141120"/>
              <a:ext cx="3723120" cy="97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Ellipse 29"/>
            <p:cNvSpPr/>
            <p:nvPr/>
          </p:nvSpPr>
          <p:spPr>
            <a:xfrm>
              <a:off x="1365480" y="2453760"/>
              <a:ext cx="1569960" cy="1556640"/>
            </a:xfrm>
            <a:prstGeom prst="ellipse">
              <a:avLst/>
            </a:prstGeom>
            <a:solidFill>
              <a:srgbClr val="2d2d8a">
                <a:alpha val="6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Picture 2" descr=""/>
            <p:cNvPicPr/>
            <p:nvPr/>
          </p:nvPicPr>
          <p:blipFill>
            <a:blip r:embed="rId4"/>
            <a:stretch/>
          </p:blipFill>
          <p:spPr>
            <a:xfrm>
              <a:off x="1598760" y="2565720"/>
              <a:ext cx="894240" cy="129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4" descr=""/>
            <p:cNvPicPr/>
            <p:nvPr/>
          </p:nvPicPr>
          <p:blipFill>
            <a:blip r:embed="rId5"/>
            <a:stretch/>
          </p:blipFill>
          <p:spPr>
            <a:xfrm>
              <a:off x="5303880" y="1202760"/>
              <a:ext cx="1398960" cy="104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5" descr=""/>
            <p:cNvPicPr/>
            <p:nvPr/>
          </p:nvPicPr>
          <p:blipFill>
            <a:blip r:embed="rId6"/>
            <a:stretch/>
          </p:blipFill>
          <p:spPr>
            <a:xfrm>
              <a:off x="6198120" y="3446640"/>
              <a:ext cx="1277280" cy="117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6" descr=""/>
            <p:cNvPicPr/>
            <p:nvPr/>
          </p:nvPicPr>
          <p:blipFill>
            <a:blip r:embed="rId7"/>
            <a:stretch/>
          </p:blipFill>
          <p:spPr>
            <a:xfrm>
              <a:off x="4427640" y="5207760"/>
              <a:ext cx="1289520" cy="124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8" descr=""/>
            <p:cNvPicPr/>
            <p:nvPr/>
          </p:nvPicPr>
          <p:blipFill>
            <a:blip r:embed="rId8"/>
            <a:stretch/>
          </p:blipFill>
          <p:spPr>
            <a:xfrm>
              <a:off x="2140200" y="4635000"/>
              <a:ext cx="14418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Ellipse 25"/>
            <p:cNvSpPr/>
            <p:nvPr/>
          </p:nvSpPr>
          <p:spPr>
            <a:xfrm>
              <a:off x="2480760" y="815400"/>
              <a:ext cx="1568160" cy="1554840"/>
            </a:xfrm>
            <a:prstGeom prst="ellipse">
              <a:avLst/>
            </a:prstGeom>
            <a:solidFill>
              <a:srgbClr val="2d2d8a">
                <a:alpha val="6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0" name="Picture 3" descr="C:\Users\user\Documents\01- Lycée\22- Réforme lycée 2010\Documents de présentation\Illustrations\vynil.jpg"/>
            <p:cNvPicPr/>
            <p:nvPr/>
          </p:nvPicPr>
          <p:blipFill>
            <a:blip r:embed="rId9"/>
            <a:stretch/>
          </p:blipFill>
          <p:spPr>
            <a:xfrm>
              <a:off x="2693880" y="1057680"/>
              <a:ext cx="1089000" cy="107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Diagramme 4" descr=""/>
            <p:cNvPicPr/>
            <p:nvPr/>
          </p:nvPicPr>
          <p:blipFill>
            <a:blip r:embed="rId10"/>
            <a:stretch/>
          </p:blipFill>
          <p:spPr>
            <a:xfrm>
              <a:off x="1209600" y="1051920"/>
              <a:ext cx="6843960" cy="525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ZoneTexte 31"/>
            <p:cNvSpPr/>
            <p:nvPr/>
          </p:nvSpPr>
          <p:spPr>
            <a:xfrm>
              <a:off x="4059360" y="1488240"/>
              <a:ext cx="1244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ffff"/>
                  </a:solidFill>
                  <a:latin typeface="Calibri"/>
                </a:rPr>
                <a:t>L’enregistr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ffff"/>
                  </a:solidFill>
                  <a:latin typeface="Calibri"/>
                </a:rPr>
                <a:t>magnétiq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ZoneTexte 32"/>
            <p:cNvSpPr/>
            <p:nvPr/>
          </p:nvSpPr>
          <p:spPr>
            <a:xfrm>
              <a:off x="6731640" y="2379960"/>
              <a:ext cx="10324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ffff"/>
                  </a:solidFill>
                  <a:latin typeface="Calibri"/>
                </a:rPr>
                <a:t>La convers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ffff"/>
                  </a:solidFill>
                  <a:latin typeface="Calibri"/>
                </a:rPr>
                <a:t>Analogiq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ffff"/>
                  </a:solidFill>
                  <a:latin typeface="Calibri"/>
                </a:rPr>
                <a:t>Numériq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ZoneTexte 35"/>
            <p:cNvSpPr/>
            <p:nvPr/>
          </p:nvSpPr>
          <p:spPr>
            <a:xfrm>
              <a:off x="6288840" y="5319000"/>
              <a:ext cx="706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ffff"/>
                  </a:solidFill>
                  <a:latin typeface="Calibri"/>
                </a:rPr>
                <a:t>La dio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ZoneTexte 36"/>
            <p:cNvSpPr/>
            <p:nvPr/>
          </p:nvSpPr>
          <p:spPr>
            <a:xfrm>
              <a:off x="2774880" y="5875200"/>
              <a:ext cx="186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ffff"/>
                  </a:solidFill>
                  <a:latin typeface="Calibri"/>
                </a:rPr>
                <a:t>La mémoire Flas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ffff"/>
                  </a:solidFill>
                  <a:latin typeface="Calibri"/>
                </a:rPr>
                <a:t>La compression numériq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6" name="Picture 28" descr=""/>
          <p:cNvPicPr/>
          <p:nvPr/>
        </p:nvPicPr>
        <p:blipFill>
          <a:blip r:embed="rId11"/>
          <a:stretch/>
        </p:blipFill>
        <p:spPr>
          <a:xfrm>
            <a:off x="460440" y="260280"/>
            <a:ext cx="1252440" cy="117000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31"/>
          <p:cNvGrpSpPr/>
          <p:nvPr/>
        </p:nvGrpSpPr>
        <p:grpSpPr>
          <a:xfrm>
            <a:off x="5886000" y="3200400"/>
            <a:ext cx="3258000" cy="743040"/>
            <a:chOff x="5886000" y="3200400"/>
            <a:chExt cx="3258000" cy="743040"/>
          </a:xfrm>
        </p:grpSpPr>
        <p:sp>
          <p:nvSpPr>
            <p:cNvPr id="178" name="Line 29"/>
            <p:cNvSpPr/>
            <p:nvPr/>
          </p:nvSpPr>
          <p:spPr>
            <a:xfrm flipH="1">
              <a:off x="5886000" y="3924360"/>
              <a:ext cx="2838600" cy="19080"/>
            </a:xfrm>
            <a:prstGeom prst="line">
              <a:avLst/>
            </a:prstGeom>
            <a:ln w="387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30"/>
            <p:cNvSpPr/>
            <p:nvPr/>
          </p:nvSpPr>
          <p:spPr>
            <a:xfrm>
              <a:off x="7905600" y="3200400"/>
              <a:ext cx="1238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0000"/>
                  </a:solidFill>
                  <a:latin typeface="Arial"/>
                </a:rPr>
                <a:t>S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e la date 1"/>
          <p:cNvSpPr/>
          <p:nvPr/>
        </p:nvSpPr>
        <p:spPr>
          <a:xfrm>
            <a:off x="0" y="6453360"/>
            <a:ext cx="15717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10 mai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Espace réservé du pied de page 2"/>
          <p:cNvSpPr/>
          <p:nvPr/>
        </p:nvSpPr>
        <p:spPr>
          <a:xfrm>
            <a:off x="1643040" y="6381720"/>
            <a:ext cx="5572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orbert Perrot - Doyen du groupe 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Espace réservé du numéro de diapositive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9276D-25B7-4E2B-9DFF-31BE31B5B01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438120" y="1828800"/>
            <a:ext cx="807732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On peut faire le parallèle avec la linguistiqu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- l’approche 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diachronique</a:t>
            </a: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 s’intéresse à l’histoire de la langue et étudie ses évolutions (étymologie, évolutions phonétiques, sémantiques, lexicales syntaxiques, etc.)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- l’approche 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synchronique</a:t>
            </a: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 s’intéresse à une langue à un moment précis de son histoi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5" descr=""/>
          <p:cNvPicPr/>
          <p:nvPr/>
        </p:nvPicPr>
        <p:blipFill>
          <a:blip r:embed="rId1"/>
          <a:stretch/>
        </p:blipFill>
        <p:spPr>
          <a:xfrm>
            <a:off x="460440" y="260280"/>
            <a:ext cx="125244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e la date 1"/>
          <p:cNvSpPr/>
          <p:nvPr/>
        </p:nvSpPr>
        <p:spPr>
          <a:xfrm>
            <a:off x="0" y="6453360"/>
            <a:ext cx="15717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10 mai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pied de page 2"/>
          <p:cNvSpPr/>
          <p:nvPr/>
        </p:nvSpPr>
        <p:spPr>
          <a:xfrm>
            <a:off x="1643040" y="6381720"/>
            <a:ext cx="5572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orbert Perrot - Doyen du groupe 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Espace réservé du numéro de diapositive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0346B-CDFE-48B4-8BDC-AD199304F7E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tretch/>
        </p:blipFill>
        <p:spPr>
          <a:xfrm>
            <a:off x="460440" y="260280"/>
            <a:ext cx="1252440" cy="11700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1047600" y="2571840"/>
            <a:ext cx="7391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Arial"/>
              </a:rPr>
              <a:t>SI = ISI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Arial"/>
              </a:rPr>
              <a:t>CIT = ISIP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3257640" y="2533680"/>
            <a:ext cx="2857320" cy="286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0000"/>
                </a:solidFill>
                <a:latin typeface="Arial"/>
              </a:rPr>
              <a:t>NON 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Espace réservé de la date 1"/>
          <p:cNvSpPr/>
          <p:nvPr/>
        </p:nvSpPr>
        <p:spPr>
          <a:xfrm>
            <a:off x="0" y="6453360"/>
            <a:ext cx="15717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10 mai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Espace réservé du pied de page 2"/>
          <p:cNvSpPr/>
          <p:nvPr/>
        </p:nvSpPr>
        <p:spPr>
          <a:xfrm>
            <a:off x="1643040" y="6381720"/>
            <a:ext cx="5572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orbert Perrot - Doyen du groupe 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Espace réservé du numéro de diapositive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F93B5-F042-439C-B854-353AC5DFD5B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ZoneTexte 4"/>
          <p:cNvSpPr/>
          <p:nvPr/>
        </p:nvSpPr>
        <p:spPr>
          <a:xfrm>
            <a:off x="642960" y="1500120"/>
            <a:ext cx="8143920" cy="47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3399"/>
                </a:solidFill>
                <a:latin typeface="Arial"/>
              </a:rPr>
              <a:t>Objectifs de ce PN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Faire un point d’étape  sur les stratégies et organisations pédagogiques retenues  pour atteindre ces objectif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Mutualiser les réflexions afin de peut-être apporter des réponses aux questions que certains se pos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Espace réservé de la date 1"/>
          <p:cNvSpPr/>
          <p:nvPr/>
        </p:nvSpPr>
        <p:spPr>
          <a:xfrm>
            <a:off x="0" y="6453360"/>
            <a:ext cx="15717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10 mai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Espace réservé du pied de page 2"/>
          <p:cNvSpPr/>
          <p:nvPr/>
        </p:nvSpPr>
        <p:spPr>
          <a:xfrm>
            <a:off x="1643040" y="6381720"/>
            <a:ext cx="5572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orbert Perrot - Doyen du groupe 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Espace réservé du numéro de diapositive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7636C-C3ED-4726-82CF-F1E8F69A3A7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ZoneTexte 4"/>
          <p:cNvSpPr/>
          <p:nvPr/>
        </p:nvSpPr>
        <p:spPr>
          <a:xfrm>
            <a:off x="428760" y="1857240"/>
            <a:ext cx="8143920" cy="35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Comment la démarche d’investigation a-telle été mise en application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Les acquis du collège ont-ils été pris en compte, et les enseignants se sont-ils appuyés sur les ressources en ligne sur le site du RNR de Technologi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ZoneTexte 5"/>
          <p:cNvSpPr/>
          <p:nvPr/>
        </p:nvSpPr>
        <p:spPr>
          <a:xfrm>
            <a:off x="4000680" y="428760"/>
            <a:ext cx="38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99"/>
                </a:solidFill>
                <a:latin typeface="Arial"/>
              </a:rPr>
              <a:t>Les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5T08:03:24Z</dcterms:created>
  <dc:creator>Norbert Perrot</dc:creator>
  <dc:description/>
  <dc:language>en-US</dc:language>
  <cp:lastModifiedBy>rrigaud</cp:lastModifiedBy>
  <dcterms:modified xsi:type="dcterms:W3CDTF">2011-08-24T09:19:19Z</dcterms:modified>
  <cp:revision>351</cp:revision>
  <dc:subject/>
  <dc:title>Diapositive 1</dc:title>
</cp:coreProperties>
</file>