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F30-6686-488F-9481-87260C89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FEE-33D4-4CFC-93D4-7047A005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6D8-2E63-4A28-8D83-16A1AE41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DDB-15D8-4D3D-9F62-E565620C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E75-E960-4C80-9010-8F0B66E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B6C-BCB8-4334-A062-D4C7886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255-695B-49B0-BC12-FCBCA905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823-D0F0-4CFC-A69E-89DDB6A3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F87-1718-48AF-BA9D-3E6D836D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91B-8AAA-4C2F-9D57-5CD8364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535-CA06-47F9-BCF9-1A299793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621-49AB-4B4B-B1F6-594D433E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E78A-922A-48CA-A775-3AC121335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s effectifs dans les enseignements d’exploration SI et C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Rentrée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phique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156960" cy="551196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2"/>
          <p:cNvSpPr/>
          <p:nvPr/>
        </p:nvSpPr>
        <p:spPr>
          <a:xfrm>
            <a:off x="285840" y="0"/>
            <a:ext cx="84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AISON RENTR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3"/>
          <p:cNvSpPr/>
          <p:nvPr/>
        </p:nvSpPr>
        <p:spPr>
          <a:xfrm>
            <a:off x="571680" y="7142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2010: 522 élèv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5"/>
          <p:cNvSpPr/>
          <p:nvPr/>
        </p:nvSpPr>
        <p:spPr>
          <a:xfrm>
            <a:off x="4714920" y="714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2011: 496 élèv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AISON RENTR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Graphique 2" descr=""/>
          <p:cNvPicPr/>
          <p:nvPr/>
        </p:nvPicPr>
        <p:blipFill>
          <a:blip r:embed="rId1"/>
          <a:stretch/>
        </p:blipFill>
        <p:spPr>
          <a:xfrm>
            <a:off x="-6480" y="1566720"/>
            <a:ext cx="9156960" cy="529776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3"/>
          <p:cNvSpPr/>
          <p:nvPr/>
        </p:nvSpPr>
        <p:spPr>
          <a:xfrm>
            <a:off x="4071960" y="100008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2010: 469 élèves en S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071960" y="17146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2011: 425 élèves en S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AISON RENTR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que 4" descr=""/>
          <p:cNvPicPr/>
          <p:nvPr/>
        </p:nvPicPr>
        <p:blipFill>
          <a:blip r:embed="rId1"/>
          <a:stretch/>
        </p:blipFill>
        <p:spPr>
          <a:xfrm>
            <a:off x="-6480" y="1420920"/>
            <a:ext cx="9156960" cy="54435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5"/>
          <p:cNvSpPr/>
          <p:nvPr/>
        </p:nvSpPr>
        <p:spPr>
          <a:xfrm>
            <a:off x="4071960" y="100008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2010: 229 élèves en C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6"/>
          <p:cNvSpPr/>
          <p:nvPr/>
        </p:nvSpPr>
        <p:spPr>
          <a:xfrm>
            <a:off x="4071960" y="17146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2011: 231 élèves en CI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50:47Z</dcterms:created>
  <dc:creator>rrigaud</dc:creator>
  <dc:description/>
  <dc:language>en-US</dc:language>
  <cp:lastModifiedBy>rrigaud</cp:lastModifiedBy>
  <dcterms:modified xsi:type="dcterms:W3CDTF">2011-09-16T09:03:27Z</dcterms:modified>
  <cp:revision>5</cp:revision>
  <dc:subject/>
  <dc:title>Diapositive 1</dc:title>
</cp:coreProperties>
</file>