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64E-33C7-4334-BC3A-F3A24C27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A31-81EB-4D84-8689-AB22DE6A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BA1-9000-43F6-BCBD-1685DFC2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500-EBC1-44A2-B4CD-FBDE5617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036-722C-458F-8F6D-C11D4A2C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05B-1434-4E2C-B0BD-6F0FEC36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0B6-1319-405D-BA25-E6500062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73F-F6D5-41C1-9AF3-867CADD3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6AB-8B22-4E4A-AAFF-873A83A4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E83-4B46-4C7F-8E76-8EE624D0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3D8-40CD-482D-A7AE-0D58DB7F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E76-FDC5-432C-B78B-BD4A30DC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C64A-2ACE-46D2-A637-F0C7011D370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ynthèse des connaiss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387D-6C97-4F03-94B0-2E6BA59B70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a synthèse des connaiss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 classe de seconde, la démarche d’investigation définit le cadre des activit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synthèse des connaissances est une étape fondamentale qui se déroule sous la houlette du professe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ynthèse des connaiss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e 26"/>
          <p:cNvGrpSpPr/>
          <p:nvPr/>
        </p:nvGrpSpPr>
        <p:grpSpPr>
          <a:xfrm>
            <a:off x="6000840" y="2143080"/>
            <a:ext cx="2735280" cy="4362840"/>
            <a:chOff x="6000840" y="2143080"/>
            <a:chExt cx="2735280" cy="4362840"/>
          </a:xfrm>
        </p:grpSpPr>
        <p:sp>
          <p:nvSpPr>
            <p:cNvPr id="47" name="AutoShape 77"/>
            <p:cNvSpPr/>
            <p:nvPr/>
          </p:nvSpPr>
          <p:spPr>
            <a:xfrm>
              <a:off x="6808680" y="6031080"/>
              <a:ext cx="1388160" cy="474840"/>
            </a:xfrm>
            <a:prstGeom prst="roundRect">
              <a:avLst>
                <a:gd name="adj" fmla="val 16667"/>
              </a:avLst>
            </a:prstGeom>
            <a:solidFill>
              <a:srgbClr val="4f6228"/>
            </a:soli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ffffff"/>
                  </a:solidFill>
                  <a:latin typeface="Calibri"/>
                </a:rPr>
                <a:t>Opérationnalisati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ffffff"/>
                  </a:solidFill>
                  <a:latin typeface="Calibri"/>
                </a:rPr>
                <a:t>des savoi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65"/>
            <p:cNvSpPr/>
            <p:nvPr/>
          </p:nvSpPr>
          <p:spPr>
            <a:xfrm>
              <a:off x="6856200" y="3438360"/>
              <a:ext cx="1837800" cy="289440"/>
            </a:xfrm>
            <a:prstGeom prst="roundRect">
              <a:avLst>
                <a:gd name="adj" fmla="val 16667"/>
              </a:avLst>
            </a:prstGeom>
            <a:solidFill>
              <a:srgbClr val="fac090"/>
            </a:soli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ffffff"/>
                  </a:solidFill>
                  <a:latin typeface="Calibri"/>
                </a:rPr>
                <a:t>La formulation d’hypothè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68"/>
            <p:cNvSpPr/>
            <p:nvPr/>
          </p:nvSpPr>
          <p:spPr>
            <a:xfrm>
              <a:off x="6804720" y="3870360"/>
              <a:ext cx="1779840" cy="474840"/>
            </a:xfrm>
            <a:prstGeom prst="roundRect">
              <a:avLst>
                <a:gd name="adj" fmla="val 16667"/>
              </a:avLst>
            </a:prstGeom>
            <a:solidFill>
              <a:srgbClr val="fac090"/>
            </a:soli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ffffff"/>
                  </a:solidFill>
                  <a:latin typeface="Calibri"/>
                </a:rPr>
                <a:t>La résolution de problèm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100" spc="-1" strike="noStrike">
                  <a:solidFill>
                    <a:srgbClr val="ffffff"/>
                  </a:solidFill>
                  <a:latin typeface="Calibri"/>
                </a:rPr>
                <a:t>Investigation - expéri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71"/>
            <p:cNvSpPr/>
            <p:nvPr/>
          </p:nvSpPr>
          <p:spPr>
            <a:xfrm>
              <a:off x="6815160" y="4521240"/>
              <a:ext cx="1454040" cy="2894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ffffff"/>
                  </a:solidFill>
                  <a:latin typeface="Calibri"/>
                </a:rPr>
                <a:t>Échanges argumenté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74"/>
            <p:cNvSpPr/>
            <p:nvPr/>
          </p:nvSpPr>
          <p:spPr>
            <a:xfrm>
              <a:off x="6829560" y="5095800"/>
              <a:ext cx="1360800" cy="47484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5f5f5f"/>
                  </a:solidFill>
                  <a:latin typeface="Calibri"/>
                </a:rPr>
                <a:t>La structuration d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5f5f5f"/>
                  </a:solidFill>
                  <a:latin typeface="Calibri"/>
                </a:rPr>
                <a:t> </a:t>
              </a:r>
              <a:r>
                <a:rPr b="0" lang="fr-FR" sz="1100" spc="-1" strike="noStrike">
                  <a:solidFill>
                    <a:srgbClr val="5f5f5f"/>
                  </a:solidFill>
                  <a:latin typeface="Calibri"/>
                </a:rPr>
                <a:t>connaissa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49"/>
            <p:cNvSpPr/>
            <p:nvPr/>
          </p:nvSpPr>
          <p:spPr>
            <a:xfrm>
              <a:off x="6255000" y="2503440"/>
              <a:ext cx="0" cy="388800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6"/>
            <p:cNvSpPr/>
            <p:nvPr/>
          </p:nvSpPr>
          <p:spPr>
            <a:xfrm>
              <a:off x="6015240" y="2144520"/>
              <a:ext cx="429480" cy="3902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5f5f5f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5f5f5f"/>
                  </a:solidFill>
                  <a:latin typeface="Calibri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57"/>
            <p:cNvSpPr/>
            <p:nvPr/>
          </p:nvSpPr>
          <p:spPr>
            <a:xfrm>
              <a:off x="6444720" y="2303280"/>
              <a:ext cx="28728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58"/>
            <p:cNvSpPr/>
            <p:nvPr/>
          </p:nvSpPr>
          <p:spPr>
            <a:xfrm>
              <a:off x="6816960" y="2143080"/>
              <a:ext cx="1452240" cy="28944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5f5f5f"/>
                  </a:solidFill>
                  <a:latin typeface="Calibri"/>
                </a:rPr>
                <a:t>La situation problè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Group 60" descr=""/>
            <p:cNvPicPr/>
            <p:nvPr/>
          </p:nvPicPr>
          <p:blipFill>
            <a:blip r:embed="rId1"/>
            <a:stretch/>
          </p:blipFill>
          <p:spPr>
            <a:xfrm>
              <a:off x="6000840" y="2883240"/>
              <a:ext cx="27352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Oval 63"/>
            <p:cNvSpPr/>
            <p:nvPr/>
          </p:nvSpPr>
          <p:spPr>
            <a:xfrm>
              <a:off x="6015240" y="3350880"/>
              <a:ext cx="429480" cy="390240"/>
            </a:xfrm>
            <a:prstGeom prst="ellipse">
              <a:avLst/>
            </a:prstGeom>
            <a:solidFill>
              <a:srgbClr val="fac090"/>
            </a:solidFill>
            <a:ln w="9360">
              <a:solidFill>
                <a:srgbClr val="5f5f5f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64"/>
            <p:cNvSpPr/>
            <p:nvPr/>
          </p:nvSpPr>
          <p:spPr>
            <a:xfrm>
              <a:off x="6444720" y="3581280"/>
              <a:ext cx="287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6"/>
            <p:cNvSpPr/>
            <p:nvPr/>
          </p:nvSpPr>
          <p:spPr>
            <a:xfrm>
              <a:off x="6015240" y="3926520"/>
              <a:ext cx="429480" cy="390240"/>
            </a:xfrm>
            <a:prstGeom prst="ellipse">
              <a:avLst/>
            </a:prstGeom>
            <a:solidFill>
              <a:srgbClr val="fac090"/>
            </a:solidFill>
            <a:ln w="9360">
              <a:solidFill>
                <a:srgbClr val="5f5f5f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6444720" y="4086000"/>
              <a:ext cx="287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9"/>
            <p:cNvSpPr/>
            <p:nvPr/>
          </p:nvSpPr>
          <p:spPr>
            <a:xfrm>
              <a:off x="6015240" y="4431600"/>
              <a:ext cx="429480" cy="39024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5f5f5f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Calibri"/>
                </a:rPr>
                <a:t>5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0"/>
            <p:cNvSpPr/>
            <p:nvPr/>
          </p:nvSpPr>
          <p:spPr>
            <a:xfrm>
              <a:off x="6444720" y="4591080"/>
              <a:ext cx="287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72"/>
            <p:cNvSpPr/>
            <p:nvPr/>
          </p:nvSpPr>
          <p:spPr>
            <a:xfrm>
              <a:off x="6015240" y="5152680"/>
              <a:ext cx="429480" cy="3902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5f5f5f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5f5f5f"/>
                  </a:solidFill>
                  <a:latin typeface="Calibri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3"/>
            <p:cNvSpPr/>
            <p:nvPr/>
          </p:nvSpPr>
          <p:spPr>
            <a:xfrm>
              <a:off x="6444720" y="5308560"/>
              <a:ext cx="28728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75"/>
            <p:cNvSpPr/>
            <p:nvPr/>
          </p:nvSpPr>
          <p:spPr>
            <a:xfrm>
              <a:off x="6015240" y="6015960"/>
              <a:ext cx="429480" cy="390240"/>
            </a:xfrm>
            <a:prstGeom prst="ellipse">
              <a:avLst/>
            </a:prstGeom>
            <a:solidFill>
              <a:srgbClr val="4f6228"/>
            </a:solidFill>
            <a:ln w="9360">
              <a:solidFill>
                <a:srgbClr val="5f5f5f"/>
              </a:solidFill>
              <a:miter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6"/>
            <p:cNvSpPr/>
            <p:nvPr/>
          </p:nvSpPr>
          <p:spPr>
            <a:xfrm>
              <a:off x="6444720" y="6175440"/>
              <a:ext cx="287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>
              <a:off x="6444720" y="3117600"/>
              <a:ext cx="287280" cy="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synthèse des connaissan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’adossera aux résultats obtenus par la clas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rmalisera les notions, définitions outils et méthodes que les élèves doivent connaître et qu’ils pourront ré-utiliser dans d’autres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ynthèse des connaiss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Construite collectivement, il est donc impératif que la synthèse dégage des éléments reproductibles sous la forme d’un capital minimal à ré-investi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lle permet d’illustrer et de structurer les connaissances et les capacités abordées, les outils mobilisés, l‘enchainement des notions, les règles et méthodes intervenant dans la construction des concep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Il s’agit d’aboutir à la rédaction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d’un document de synthèse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qui est à intégrer au cahier (numérique) de l’élève aux côtés des données et traces  de leur travail de recherche et d’investigatio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ynthèse des connaiss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L'intégration et le transfert des apprentissages ce n'est pas qu'apprend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C'est ce que quelqu'un fait avec ce qu'il a app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ynthèse des connaiss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9:15:09Z</dcterms:created>
  <dc:creator>rrigaud</dc:creator>
  <dc:description/>
  <dc:language>en-US</dc:language>
  <cp:lastModifiedBy>rrigaud</cp:lastModifiedBy>
  <dcterms:modified xsi:type="dcterms:W3CDTF">2011-09-07T10:12:57Z</dcterms:modified>
  <cp:revision>8</cp:revision>
  <dc:subject/>
  <dc:title>La synthèse des connaissances</dc:title>
</cp:coreProperties>
</file>