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C4EB8-317C-445E-ACB6-EA6435069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27280" y="82080"/>
            <a:ext cx="69595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89DB6-CEA1-4FDD-A8AB-CE86FC82F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27280" y="82080"/>
            <a:ext cx="69595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F64EB-0E0B-4B72-99CB-64B1D2061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27280" y="82080"/>
            <a:ext cx="69595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26361-7460-43FD-A39D-F35DE03EB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27280" y="82080"/>
            <a:ext cx="69595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5BD60-9B3B-446F-94D8-AE9F2BD91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27280" y="82080"/>
            <a:ext cx="69595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A14C9-563A-4B91-A487-9518A7558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27280" y="82080"/>
            <a:ext cx="69595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2A901-C076-4D33-AEEA-3F12D8299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27280" y="82080"/>
            <a:ext cx="69595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11027-5B5F-48E4-B41E-531D3E40F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27280" y="82080"/>
            <a:ext cx="69595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E962C-85BB-43CA-8F03-6A25D67DB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27280" y="82080"/>
            <a:ext cx="69595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B56FC-8ED1-4BE0-B166-A7BF96F12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27280" y="82080"/>
            <a:ext cx="69595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26446-D622-42F4-AAE4-D4906F5E4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27280" y="82080"/>
            <a:ext cx="69595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80EEB-26CB-4ACB-9334-6058C30D4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27280" y="82080"/>
            <a:ext cx="69595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50B004-A2A6-462E-8644-B86B5CCBF186}"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46" descr=""/>
          <p:cNvPicPr/>
          <p:nvPr/>
        </p:nvPicPr>
        <p:blipFill>
          <a:blip r:embed="rId2"/>
          <a:stretch/>
        </p:blipFill>
        <p:spPr>
          <a:xfrm>
            <a:off x="295200" y="287280"/>
            <a:ext cx="1252440" cy="1143000"/>
          </a:xfrm>
          <a:prstGeom prst="rect">
            <a:avLst/>
          </a:prstGeom>
          <a:ln w="0">
            <a:noFill/>
          </a:ln>
        </p:spPr>
      </p:pic>
      <p:sp>
        <p:nvSpPr>
          <p:cNvPr id="6" name="Connecteur droit 7"/>
          <p:cNvSpPr/>
          <p:nvPr/>
        </p:nvSpPr>
        <p:spPr>
          <a:xfrm>
            <a:off x="1549440" y="1189080"/>
            <a:ext cx="7594560" cy="1440"/>
          </a:xfrm>
          <a:prstGeom prst="line">
            <a:avLst/>
          </a:prstGeom>
          <a:ln w="38160">
            <a:solidFill>
              <a:srgbClr val="11229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991880" y="1930320"/>
            <a:ext cx="6465960" cy="2789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4400" spc="-1" strike="noStrike">
                <a:solidFill>
                  <a:srgbClr val="11229d"/>
                </a:solidFill>
                <a:latin typeface="Calibri"/>
              </a:rPr>
              <a:t>Les enseignements d’exploration Sciences de l’Ingénieur et Créativité et Innovation technologique</a:t>
            </a:r>
            <a:endParaRPr b="0" lang="en-US" sz="4400" spc="-1" strike="noStrike">
              <a:solidFill>
                <a:srgbClr val="000000"/>
              </a:solidFill>
              <a:latin typeface="Calibri"/>
            </a:endParaRPr>
          </a:p>
        </p:txBody>
      </p:sp>
      <p:sp>
        <p:nvSpPr>
          <p:cNvPr id="44" name="PlaceHolder 2"/>
          <p:cNvSpPr>
            <a:spLocks noGrp="1"/>
          </p:cNvSpPr>
          <p:nvPr>
            <p:ph type="subTitle"/>
          </p:nvPr>
        </p:nvSpPr>
        <p:spPr>
          <a:xfrm>
            <a:off x="2104560" y="5105520"/>
            <a:ext cx="5667480" cy="1752480"/>
          </a:xfrm>
          <a:prstGeom prst="rect">
            <a:avLst/>
          </a:prstGeom>
          <a:noFill/>
          <a:ln w="0">
            <a:noFill/>
          </a:ln>
        </p:spPr>
        <p:txBody>
          <a:bodyPr anchor="t">
            <a:noAutofit/>
          </a:bodyPr>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898989"/>
                </a:solidFill>
                <a:latin typeface="Calibri"/>
              </a:rPr>
              <a:t>D Taraud  IGEN STI</a:t>
            </a:r>
            <a:endParaRPr b="0" lang="en-US" sz="32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898989"/>
                </a:solidFill>
                <a:latin typeface="Calibri"/>
              </a:rPr>
              <a:t>Paris, le 10 mai 2011</a:t>
            </a:r>
            <a:endParaRPr b="0" lang="en-US" sz="3200" spc="-1" strike="noStrike">
              <a:solidFill>
                <a:srgbClr val="000000"/>
              </a:solidFill>
              <a:latin typeface="Calibri"/>
            </a:endParaRPr>
          </a:p>
        </p:txBody>
      </p:sp>
      <p:sp>
        <p:nvSpPr>
          <p:cNvPr id="45" name="ZoneTexte 3"/>
          <p:cNvSpPr/>
          <p:nvPr/>
        </p:nvSpPr>
        <p:spPr>
          <a:xfrm>
            <a:off x="2465280" y="635040"/>
            <a:ext cx="621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OGRAMME NATIONAL DE FORMATION – 10 MAI 2011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727280" y="82080"/>
            <a:ext cx="69595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4400" spc="-1" strike="noStrike">
                <a:solidFill>
                  <a:srgbClr val="11229d"/>
                </a:solidFill>
                <a:latin typeface="Calibri"/>
              </a:rPr>
              <a:t>Les enseignant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Vivent des conditions de mise en œuvre particulières: urgence de l’application, formation minimale, problèmes d’équipements, réduction de la taille des équipes pédagogiques et, parfois, isoleme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Connaissent un élargissement de leurs compétences initiales: approches de systèmes pluri technologiques, de principes scientifiques peu connus, etc. </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2700" spc="-1" strike="noStrike">
                <a:solidFill>
                  <a:srgbClr val="ff0000"/>
                </a:solidFill>
                <a:latin typeface="Calibri"/>
              </a:rPr>
              <a:t>MAI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Un réel désir de bien faire, de se débrouiller avec les moyens disponibles et d’assumer… ce qui permet de rester optimist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27280" y="82080"/>
            <a:ext cx="69595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4400" spc="-1" strike="noStrike">
                <a:solidFill>
                  <a:srgbClr val="11229d"/>
                </a:solidFill>
                <a:latin typeface="Calibri"/>
              </a:rPr>
              <a:t>Une obligation: mutualiser</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partage d’expérience et la mutualisation des activités devient une obligation:</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Au niveau local (EPLE) en constituant une véritable équipe de réflexion (Un </a:t>
            </a:r>
            <a:r>
              <a:rPr b="1" i="1" lang="fr-FR" sz="3000" spc="-1" strike="noStrike">
                <a:solidFill>
                  <a:srgbClr val="000000"/>
                </a:solidFill>
                <a:latin typeface="Calibri"/>
              </a:rPr>
              <a:t>think tank</a:t>
            </a:r>
            <a:r>
              <a:rPr b="0" lang="fr-FR" sz="3000" spc="-1" strike="noStrike">
                <a:solidFill>
                  <a:srgbClr val="000000"/>
                </a:solidFill>
                <a:latin typeface="Calibri"/>
              </a:rPr>
              <a:t>, </a:t>
            </a:r>
            <a:r>
              <a:rPr b="0" lang="fr-FR" sz="1900" spc="-1" strike="noStrike">
                <a:solidFill>
                  <a:srgbClr val="000000"/>
                </a:solidFill>
                <a:latin typeface="Calibri"/>
              </a:rPr>
              <a:t>en français </a:t>
            </a:r>
            <a:r>
              <a:rPr b="0" i="1" lang="fr-FR" sz="1900" spc="-1" strike="noStrike">
                <a:solidFill>
                  <a:srgbClr val="000000"/>
                </a:solidFill>
                <a:latin typeface="Calibri"/>
              </a:rPr>
              <a:t>laboratoire d'idées</a:t>
            </a:r>
            <a:r>
              <a:rPr b="0" lang="fr-FR" sz="3000" spc="-1" strike="noStrike">
                <a:solidFill>
                  <a:srgbClr val="000000"/>
                </a:solidFill>
                <a:latin typeface="Calibri"/>
              </a:rPr>
              <a:t>) autour des enseignants en charge des EE!</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Au niveau académique, en mutualisant les bonnes pratiques au travers de groupes de travail, du site académique STI, de WEB conférences</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Au niveau national: à partir du CNR SI-CI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727280" y="-5040"/>
            <a:ext cx="74167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4000" spc="-1" strike="noStrike">
                <a:solidFill>
                  <a:srgbClr val="11229d"/>
                </a:solidFill>
                <a:latin typeface="Calibri"/>
              </a:rPr>
              <a:t>Des expérimentations intéressantes</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expérimentations constatées aujourd’hui sont de deux ordres (voir lycée Loritz de Nancy et Monnet d’Aurillac ):</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Relatives à l’offre de formation, en « enrichissant » les EE proposés par des approches innovantes</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Relatives aux stratégies pédagogiques développé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727280" y="-43200"/>
            <a:ext cx="69595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4000" spc="-1" strike="noStrike">
                <a:solidFill>
                  <a:srgbClr val="11229d"/>
                </a:solidFill>
                <a:latin typeface="Calibri"/>
              </a:rPr>
              <a:t>Développer des expérimentations d’adaptation</a:t>
            </a:r>
            <a:endParaRPr b="0" lang="en-US" sz="4000" spc="-1" strike="noStrike">
              <a:solidFill>
                <a:srgbClr val="000000"/>
              </a:solidFill>
              <a:latin typeface="Calibri"/>
            </a:endParaRPr>
          </a:p>
        </p:txBody>
      </p:sp>
      <p:sp>
        <p:nvSpPr>
          <p:cNvPr id="74" name=""/>
          <p:cNvSpPr txBox="1"/>
          <p:nvPr/>
        </p:nvSpPr>
        <p:spPr>
          <a:xfrm>
            <a:off x="457200" y="1780920"/>
            <a:ext cx="8229600" cy="43448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Les possibilités de l’article 34 permettent d’envisager des expérimentations très larges pour des enseignements d’exploration aux contraintes de programme et d’organisation assez faib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L’approche « industrielle » peut et doit aussi passer par d’autres enseignements d’exploration, comme MPS ou de type expérimentales, comme ION (spécifique à l’académie de Versailles)</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2700" spc="-1" strike="noStrike">
                <a:solidFill>
                  <a:srgbClr val="ff0000"/>
                </a:solidFill>
                <a:latin typeface="Calibri"/>
              </a:rPr>
              <a:t>Cela représente un véritable champ d’autonomie de chaque lycée, adapté à chaque contexte local et à intégrer dans le projet d’établissemen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727280" y="-30600"/>
            <a:ext cx="69595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4000" spc="-1" strike="noStrike">
                <a:solidFill>
                  <a:srgbClr val="11229d"/>
                </a:solidFill>
                <a:latin typeface="Calibri"/>
              </a:rPr>
              <a:t>Un équilibre entre savoirs visés et évaluation des compétences</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savoirs du programme restent globaux et exigent une « opérationnalisation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programmes proposent des compétences larges, associées à des activités « génériques » devant être déclinées au niveau d’activités pratiques</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nsemble des EE peuvent permettre l’évaluation de compétences très globales, déclinables dans chaque EE, permettant d’évaluer le potentiel de chaque élève (voir proposition de Clermont-Ferran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727280" y="-30600"/>
            <a:ext cx="69595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4000" spc="-1" strike="noStrike">
                <a:solidFill>
                  <a:srgbClr val="11229d"/>
                </a:solidFill>
                <a:latin typeface="Calibri"/>
              </a:rPr>
              <a:t>Quels savoirs et quelles compétences ?</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Comment identifier, dans chaque séquence de formation, les savoirs, savoir-faire et savoir être qui peuvent être visés et évalu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Quel équilibre à trouver entre l’exploration d’un support, des acquis associés et une évaluation des compétences développées?</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Quelles compétences générales retenir, comment les décliner au fur et à mesure des activités et proposer une évaluation du potentiel global de chaque élèv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27280" y="-43200"/>
            <a:ext cx="69595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4000" spc="-1" strike="noStrike">
                <a:solidFill>
                  <a:srgbClr val="11229d"/>
                </a:solidFill>
                <a:latin typeface="Calibri"/>
              </a:rPr>
              <a:t>Un maillon crucial entre collège et lycée</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EE industriels restent les seuls maillons entre le collège et les cycles terminaux du lycée…</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Malgré le handicap de ne pas être dans le tronc commun, les enseignements proposés doivent être:</a:t>
            </a:r>
            <a:endParaRPr b="0" lang="en-US" sz="3000" spc="-1" strike="noStrike">
              <a:solidFill>
                <a:srgbClr val="000000"/>
              </a:solidFill>
              <a:latin typeface="Calibri"/>
            </a:endParaRPr>
          </a:p>
          <a:p>
            <a:pPr>
              <a:lnSpc>
                <a:spcPct val="9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3000" spc="-1" strike="noStrike">
                <a:solidFill>
                  <a:srgbClr val="ff0000"/>
                </a:solidFill>
                <a:latin typeface="Calibri"/>
              </a:rPr>
              <a:t> </a:t>
            </a:r>
            <a:r>
              <a:rPr b="1" i="1" lang="fr-FR" sz="3000" spc="-1" strike="noStrike">
                <a:solidFill>
                  <a:srgbClr val="ff0000"/>
                </a:solidFill>
                <a:latin typeface="Calibri"/>
              </a:rPr>
              <a:t>attractifs </a:t>
            </a:r>
            <a:r>
              <a:rPr b="0" lang="fr-FR" sz="3000" spc="-1" strike="noStrike">
                <a:solidFill>
                  <a:srgbClr val="000000"/>
                </a:solidFill>
                <a:latin typeface="Calibri"/>
              </a:rPr>
              <a:t>(donner envie), </a:t>
            </a:r>
            <a:endParaRPr b="0" lang="en-US" sz="3000" spc="-1" strike="noStrike">
              <a:solidFill>
                <a:srgbClr val="000000"/>
              </a:solidFill>
              <a:latin typeface="Calibri"/>
            </a:endParaRPr>
          </a:p>
          <a:p>
            <a:pPr>
              <a:lnSpc>
                <a:spcPct val="9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3000" spc="-1" strike="noStrike">
                <a:solidFill>
                  <a:srgbClr val="ff0000"/>
                </a:solidFill>
                <a:latin typeface="Calibri"/>
              </a:rPr>
              <a:t>motivants</a:t>
            </a:r>
            <a:r>
              <a:rPr b="0" lang="fr-FR" sz="3000" spc="-1" strike="noStrike">
                <a:solidFill>
                  <a:srgbClr val="000000"/>
                </a:solidFill>
                <a:latin typeface="Calibri"/>
              </a:rPr>
              <a:t> (s’intéresser et découvrir), </a:t>
            </a:r>
            <a:endParaRPr b="0" lang="en-US" sz="3000" spc="-1" strike="noStrike">
              <a:solidFill>
                <a:srgbClr val="000000"/>
              </a:solidFill>
              <a:latin typeface="Calibri"/>
            </a:endParaRPr>
          </a:p>
          <a:p>
            <a:pPr>
              <a:lnSpc>
                <a:spcPct val="9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3000" spc="-1" strike="noStrike">
                <a:solidFill>
                  <a:srgbClr val="ff0000"/>
                </a:solidFill>
                <a:latin typeface="Calibri"/>
              </a:rPr>
              <a:t>sérieux</a:t>
            </a:r>
            <a:r>
              <a:rPr b="0" lang="fr-FR" sz="3000" spc="-1" strike="noStrike">
                <a:solidFill>
                  <a:srgbClr val="000000"/>
                </a:solidFill>
                <a:latin typeface="Calibri"/>
              </a:rPr>
              <a:t> (apprendre), </a:t>
            </a:r>
            <a:endParaRPr b="0" lang="en-US" sz="3000" spc="-1" strike="noStrike">
              <a:solidFill>
                <a:srgbClr val="000000"/>
              </a:solidFill>
              <a:latin typeface="Calibri"/>
            </a:endParaRPr>
          </a:p>
          <a:p>
            <a:pPr>
              <a:lnSpc>
                <a:spcPct val="9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3000" spc="-1" strike="noStrike">
                <a:solidFill>
                  <a:srgbClr val="ff0000"/>
                </a:solidFill>
                <a:latin typeface="Calibri"/>
              </a:rPr>
              <a:t>valorisants</a:t>
            </a:r>
            <a:r>
              <a:rPr b="0" lang="fr-FR" sz="3000" spc="-1" strike="noStrike">
                <a:solidFill>
                  <a:srgbClr val="000000"/>
                </a:solidFill>
                <a:latin typeface="Calibri"/>
              </a:rPr>
              <a:t> (confiance en sois, compétences reconnu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727280" y="82080"/>
            <a:ext cx="69595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4400" spc="-1" strike="noStrike">
                <a:solidFill>
                  <a:srgbClr val="11229d"/>
                </a:solidFill>
                <a:latin typeface="Calibri"/>
              </a:rPr>
              <a:t>Les constats</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Au niveau des effectif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Au niveau du ressenti des élèves qui suivent les EE industrie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Au niveau du positionnement des enseignements d’exploration: activités pour explorer, apprendre, s’oriente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Au niveau des enseignants: isolés ou accompagnés, projet individuel ou d’équipe pédagogiqu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Au niveau des évolutions possibles de ces enseignemen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Au niveau de l’évaluation: quels acquis, quelles compétences et quelles évaluation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727280" y="82080"/>
            <a:ext cx="69595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000000"/>
                </a:solidFill>
                <a:latin typeface="Calibri"/>
              </a:rPr>
              <a:t>Les effectifs au niveau national</a:t>
            </a:r>
            <a:endParaRPr b="0" lang="en-US" sz="40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Un décompte précis des élèves suivant chaque enseignement SI et CIT</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3000" spc="-1" strike="noStrike">
                <a:solidFill>
                  <a:srgbClr val="ff0000"/>
                </a:solidFill>
                <a:latin typeface="Calibri"/>
              </a:rPr>
              <a:t>MA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Pas de décompte officiel des élèves suivant l’ensemble des 2 enseignements d’exploration SI et CIT…</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3000" spc="-1" strike="noStrike">
                <a:solidFill>
                  <a:srgbClr val="ff0000"/>
                </a:solidFill>
                <a:latin typeface="Calibri"/>
              </a:rPr>
              <a:t>Ce qui ne permet pas de connaître le nombre exact des élèves suivant 1 ou 2 EE industriels et ne permet pas d’apprécier l’évolution des effectifs entre 2009/10 et 2010/1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727280" y="82080"/>
            <a:ext cx="69595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4400" spc="-1" strike="noStrike">
                <a:solidFill>
                  <a:srgbClr val="11229d"/>
                </a:solidFill>
                <a:latin typeface="Calibri"/>
              </a:rPr>
              <a:t>Evolutions 2009 / 2010</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Une probable augmentation du nombre d’élèves suivant au moins un enseignement d’exploration industriel par rapport aux options ISI et ISP…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3200" spc="-1" strike="noStrike">
                <a:solidFill>
                  <a:srgbClr val="ff0000"/>
                </a:solidFill>
                <a:latin typeface="Calibri"/>
              </a:rPr>
              <a:t>MA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Une forte diminution des horaires de formation entraînant une forte chute des horaires professeur STI en seconde G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27280" y="82080"/>
            <a:ext cx="69595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4400" spc="-1" strike="noStrike">
                <a:solidFill>
                  <a:srgbClr val="11229d"/>
                </a:solidFill>
                <a:latin typeface="Calibri"/>
              </a:rPr>
              <a:t>Le ressenti des élève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Perceptions recueillies (fin du premier trimestre) lors des observations de séances d’EE par les inspecteurs généraux:</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700" spc="-1" strike="noStrike">
                <a:solidFill>
                  <a:srgbClr val="000000"/>
                </a:solidFill>
                <a:latin typeface="Calibri"/>
              </a:rPr>
              <a:t>« C’est intéressant, on fait des trucs mais on n’apprend rien ».</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700" spc="-1" strike="noStrike">
                <a:solidFill>
                  <a:srgbClr val="000000"/>
                </a:solidFill>
                <a:latin typeface="Calibri"/>
              </a:rPr>
              <a:t>« On retrouve ce qu’on a déjà fait au collège et on reste sur notre faim ».</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700" spc="-1" strike="noStrike">
                <a:solidFill>
                  <a:srgbClr val="000000"/>
                </a:solidFill>
                <a:latin typeface="Calibri"/>
              </a:rPr>
              <a:t>« L’évolution des objets au cours du temps, c’est intéressant, on apprend des choses de la vie courante. Mais ce n’est pas assez technique, on ne rentre pas assez dans les détails ».</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700" spc="-1" strike="noStrike">
                <a:solidFill>
                  <a:srgbClr val="000000"/>
                </a:solidFill>
                <a:latin typeface="Calibri"/>
              </a:rPr>
              <a:t>« Tout travail mérite salaire et là, on n’est pas noté »</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727280" y="82080"/>
            <a:ext cx="69595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4400" spc="-1" strike="noStrike">
                <a:solidFill>
                  <a:srgbClr val="11229d"/>
                </a:solidFill>
                <a:latin typeface="Calibri"/>
              </a:rPr>
              <a:t>La continuité collège-lycé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 transformation des laboratoires de ISI-ISP est réelle: laboratoires de SI-CIT souvent partagés, aménagement par ilots, supports didactiques pertinents, activités techniques intéressantes, connexions numériques effectives…</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3000" spc="-1" strike="noStrike">
                <a:solidFill>
                  <a:srgbClr val="ff0000"/>
                </a:solidFill>
                <a:latin typeface="Calibri"/>
              </a:rPr>
              <a:t>MA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Une certaine méconnaissance des objectifs et des pratiques menées au collèg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Une ouverture timide sur la démarche d’investigation… qui pourrait être au cœur des approches SI et CI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27280" y="82080"/>
            <a:ext cx="69595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4000" spc="-1" strike="noStrike">
                <a:solidFill>
                  <a:srgbClr val="11229d"/>
                </a:solidFill>
                <a:latin typeface="Calibri"/>
              </a:rPr>
              <a:t>Les démarches pédagogiques</a:t>
            </a:r>
            <a:endParaRPr b="0" lang="en-US" sz="4000" spc="-1" strike="noStrike">
              <a:solidFill>
                <a:srgbClr val="000000"/>
              </a:solidFill>
              <a:latin typeface="Calibri"/>
            </a:endParaRPr>
          </a:p>
        </p:txBody>
      </p:sp>
      <p:pic>
        <p:nvPicPr>
          <p:cNvPr id="57" name="Espace réservé du contenu 3" descr=""/>
          <p:cNvPicPr/>
          <p:nvPr/>
        </p:nvPicPr>
        <p:blipFill>
          <a:blip r:embed="rId1"/>
          <a:stretch/>
        </p:blipFill>
        <p:spPr>
          <a:xfrm>
            <a:off x="274680" y="1274760"/>
            <a:ext cx="4151160" cy="4071960"/>
          </a:xfrm>
          <a:prstGeom prst="rect">
            <a:avLst/>
          </a:prstGeom>
          <a:ln w="0">
            <a:noFill/>
          </a:ln>
        </p:spPr>
      </p:pic>
      <p:pic>
        <p:nvPicPr>
          <p:cNvPr id="58" name="Image 4" descr="img039.jpg"/>
          <p:cNvPicPr/>
          <p:nvPr/>
        </p:nvPicPr>
        <p:blipFill>
          <a:blip r:embed="rId2"/>
          <a:srcRect l="0" t="0" r="18671" b="19562"/>
          <a:stretch/>
        </p:blipFill>
        <p:spPr>
          <a:xfrm>
            <a:off x="5740560" y="2452680"/>
            <a:ext cx="2946240" cy="4122720"/>
          </a:xfrm>
          <a:prstGeom prst="rect">
            <a:avLst/>
          </a:prstGeom>
          <a:ln w="0">
            <a:noFill/>
          </a:ln>
        </p:spPr>
      </p:pic>
      <p:sp>
        <p:nvSpPr>
          <p:cNvPr id="59" name="ZoneTexte 5"/>
          <p:cNvSpPr/>
          <p:nvPr/>
        </p:nvSpPr>
        <p:spPr>
          <a:xfrm>
            <a:off x="4133880" y="1838160"/>
            <a:ext cx="673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008000"/>
                </a:solidFill>
                <a:latin typeface="Calibri"/>
              </a:rPr>
              <a:t>☑</a:t>
            </a:r>
            <a:endParaRPr b="0" lang="en-US" sz="4000" spc="-1" strike="noStrike">
              <a:solidFill>
                <a:srgbClr val="000000"/>
              </a:solidFill>
              <a:latin typeface="Calibri"/>
            </a:endParaRPr>
          </a:p>
        </p:txBody>
      </p:sp>
      <p:sp>
        <p:nvSpPr>
          <p:cNvPr id="60" name="ZoneTexte 6"/>
          <p:cNvSpPr/>
          <p:nvPr/>
        </p:nvSpPr>
        <p:spPr>
          <a:xfrm>
            <a:off x="4149720" y="2763720"/>
            <a:ext cx="6714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008000"/>
                </a:solidFill>
                <a:latin typeface="Calibri"/>
              </a:rPr>
              <a:t>☑</a:t>
            </a:r>
            <a:endParaRPr b="0" lang="en-US" sz="4000" spc="-1" strike="noStrike">
              <a:solidFill>
                <a:srgbClr val="000000"/>
              </a:solidFill>
              <a:latin typeface="Calibri"/>
            </a:endParaRPr>
          </a:p>
        </p:txBody>
      </p:sp>
      <p:sp>
        <p:nvSpPr>
          <p:cNvPr id="61" name="ZoneTexte 7"/>
          <p:cNvSpPr/>
          <p:nvPr/>
        </p:nvSpPr>
        <p:spPr>
          <a:xfrm>
            <a:off x="4152960" y="3387600"/>
            <a:ext cx="6714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ff0000"/>
                </a:solidFill>
                <a:latin typeface="Calibri"/>
              </a:rPr>
              <a:t>✘</a:t>
            </a:r>
            <a:endParaRPr b="0" lang="en-US" sz="4000" spc="-1" strike="noStrike">
              <a:solidFill>
                <a:srgbClr val="000000"/>
              </a:solidFill>
              <a:latin typeface="Calibri"/>
            </a:endParaRPr>
          </a:p>
        </p:txBody>
      </p:sp>
      <p:sp>
        <p:nvSpPr>
          <p:cNvPr id="62" name="ZoneTexte 8"/>
          <p:cNvSpPr/>
          <p:nvPr/>
        </p:nvSpPr>
        <p:spPr>
          <a:xfrm>
            <a:off x="457200" y="4681440"/>
            <a:ext cx="4921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2400" spc="-1" strike="noStrike">
                <a:solidFill>
                  <a:srgbClr val="ff0000"/>
                </a:solidFill>
                <a:latin typeface="Calibri"/>
              </a:rPr>
              <a:t>Un proposition réaliste et d’avenir: demander aux formateurs de technologie collège d’expliquer aux professeurs de lycée ce qu’est une démarche d’investig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727280" y="82080"/>
            <a:ext cx="69595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4400" spc="-1" strike="noStrike">
                <a:solidFill>
                  <a:srgbClr val="11229d"/>
                </a:solidFill>
                <a:latin typeface="Calibri"/>
              </a:rPr>
              <a:t>Un positionnement ambiguë</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EE SI et CIT: seuls EE, avec les SES, le PFEG et les pratiques artistiques à ne pas être présent dans le tronc commun… sans possibilité d’enrichir une pratique existante comme cela est le cas en MPS et LS, par exemp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Une hésitation fondamentale entre l’apport de savoirs structurés et l’exploration ouverte d’un domaine…</a:t>
            </a:r>
            <a:endParaRPr b="0" lang="en-US" sz="3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3000" spc="-1" strike="noStrike">
                <a:solidFill>
                  <a:srgbClr val="ff0000"/>
                </a:solidFill>
                <a:latin typeface="Calibri"/>
              </a:rPr>
              <a:t>Quel équilibre trouver entre ces 2 position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27280" y="-92520"/>
            <a:ext cx="7416720" cy="12495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4000" spc="-1" strike="noStrike">
                <a:solidFill>
                  <a:srgbClr val="11229d"/>
                </a:solidFill>
                <a:latin typeface="Calibri"/>
              </a:rPr>
              <a:t>Explorer, s’orienter, se prédéterminer</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Un constat général fin 2010: </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Élèves et parents restent dans une logique de pré détermination… et non d’exploration.</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Existence d’une incompréhension profonde de devoir choisir des EE « qui plaisent et qui ne comptent pas pour le passage ».</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Pas ou peu d’activités observées destinées à l’orientation (ouverture vers l’extérieur de la classe: entreprises, formations pré et post bac, interventions d’intervenants extérieurs…).</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6T19:10:34Z</dcterms:created>
  <dc:creator>Taraud Dominique</dc:creator>
  <dc:description/>
  <dc:language>en-US</dc:language>
  <cp:lastModifiedBy>rrigaud</cp:lastModifiedBy>
  <dcterms:modified xsi:type="dcterms:W3CDTF">2011-08-24T09:24:06Z</dcterms:modified>
  <cp:revision>36</cp:revision>
  <dc:subject/>
  <dc:title>Présentation PowerPoint</dc:title>
</cp:coreProperties>
</file>