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110-BFAF-4E79-BC40-55C8F8B7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56F-CB0E-447F-A187-E11F5A4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259-FFDC-4E1D-AE59-B58ED79D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3FA-1A50-4874-B9EF-03AFA5A9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DDB-735C-4E3B-A127-0FAC7743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D422-503C-46E4-8B57-78376D1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1BF-B0A8-45E8-BF48-E95A881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99E-71A0-4F59-8E62-33CC667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654-4B1D-4171-97B7-4E38FF4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6E8B-04B2-4C83-8F83-07A892C0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826A-30A9-476C-A42A-4CABE18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03E-6A67-47EB-A1DA-9E01456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A1F2-2201-4AD1-AE8F-FAEF52A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50A-A64A-4DB7-ADE0-0C1F95C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B578-C6C5-40D2-9DA9-CA356F0D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1FE-D860-4F47-A1B2-67B08059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2C7-7E74-4841-89F2-3BFE2D9D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C8C-5F49-4103-B2C6-266A16B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800-2C7A-4E39-BB0F-EFAD7894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801-8DAE-49D9-90D5-130DCA6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34D-F9F1-4E96-B004-F3B22DE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832-0434-44BD-A485-9E620CA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6AA-64F4-4FFF-8F11-5A458B9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A29-AA3C-4A99-A10E-A26E1F1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EEF-E1E3-4896-AA8C-61B7F28EE0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D96-1648-4037-876A-6F07E52821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385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1143000"/>
            <a:ext cx="327636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5d6b"/>
                </a:solidFill>
                <a:latin typeface="Tahoma"/>
              </a:rPr>
              <a:t>Éval à insé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800600" y="3048120"/>
            <a:ext cx="4038480" cy="25146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393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3657600"/>
            <a:ext cx="3657600" cy="105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duire sous forme de croq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’organisation structurelle d’un obj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762120"/>
            <a:ext cx="36576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oquis, schéma, code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résentatio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 en parler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09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800600" y="304920"/>
          <a:ext cx="414324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920"/>
                    <a:ext cx="414324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952880" y="2209680"/>
          <a:ext cx="3714840" cy="431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209680"/>
                    <a:ext cx="371484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4572000" y="1600200"/>
          <a:ext cx="407664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600200"/>
                    <a:ext cx="40766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467240" y="1371600"/>
          <a:ext cx="4676760" cy="499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67240" y="1371600"/>
                    <a:ext cx="46767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32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5105520" y="2165400"/>
            <a:ext cx="3733560" cy="1465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ent le tablier est-il soutenu par la structure du pon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44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184880" y="380880"/>
            <a:ext cx="1803960" cy="1206720"/>
            <a:chOff x="7184880" y="380880"/>
            <a:chExt cx="1803960" cy="1206720"/>
          </a:xfrm>
        </p:grpSpPr>
        <p:graphicFrame>
          <p:nvGraphicFramePr>
            <p:cNvPr id="450" name=""/>
            <p:cNvGraphicFramePr/>
            <p:nvPr/>
          </p:nvGraphicFramePr>
          <p:xfrm>
            <a:off x="7315200" y="380880"/>
            <a:ext cx="15908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380880"/>
                      <a:ext cx="15908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"/>
            <p:cNvSpPr/>
            <p:nvPr/>
          </p:nvSpPr>
          <p:spPr>
            <a:xfrm>
              <a:off x="7184880" y="121932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s maquet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876920" y="152280"/>
            <a:ext cx="2320920" cy="2425680"/>
            <a:chOff x="4876920" y="152280"/>
            <a:chExt cx="2320920" cy="2425680"/>
          </a:xfrm>
        </p:grpSpPr>
        <p:graphicFrame>
          <p:nvGraphicFramePr>
            <p:cNvPr id="454" name=""/>
            <p:cNvGraphicFramePr/>
            <p:nvPr/>
          </p:nvGraphicFramePr>
          <p:xfrm>
            <a:off x="4876920" y="152280"/>
            <a:ext cx="2320920" cy="204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52280"/>
                      <a:ext cx="2320920" cy="20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5291640" y="22096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s pho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952880" y="3048120"/>
            <a:ext cx="3737160" cy="3187440"/>
            <a:chOff x="4952880" y="3048120"/>
            <a:chExt cx="3737160" cy="3187440"/>
          </a:xfrm>
        </p:grpSpPr>
        <p:graphicFrame>
          <p:nvGraphicFramePr>
            <p:cNvPr id="458" name=""/>
            <p:cNvGraphicFramePr/>
            <p:nvPr/>
          </p:nvGraphicFramePr>
          <p:xfrm>
            <a:off x="4952880" y="3048120"/>
            <a:ext cx="3737160" cy="281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3048120"/>
                      <a:ext cx="3737160" cy="28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5816520" y="5867280"/>
              <a:ext cx="18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s ressourc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*</cp:lastModifiedBy>
  <dcterms:modified xsi:type="dcterms:W3CDTF">2009-02-18T02:03:41Z</dcterms:modified>
  <cp:revision>38</cp:revision>
  <dc:subject/>
  <dc:title>LA TECHNOLOGIE AU COLLEGE</dc:title>
</cp:coreProperties>
</file>