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C36C-7316-4856-B46A-91AABAEA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7467-91F5-4838-AB8A-5D019833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793-945F-4A7F-9FC3-9563667B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D35-E20E-4EE2-93C6-BB8C3594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7741-41E6-476A-9AB0-CB83F5AE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74F8-A7A1-468A-8158-17D17C75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854E-6497-420D-A41C-0695D1C5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A8B8-ED06-46AB-9466-A6CCE4D3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3EC1-D469-47E4-815B-8F48472B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063B-5CE3-4210-82B6-6D2B0DAB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C9FF-E375-401F-B5FA-EEE2EDEB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30A9-E3AC-44CC-B9CB-E40595F0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D6C3-4B20-4EA1-9B62-0CC35B7F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BFD6-05CA-4704-89B3-B309915E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238A-2A4A-49DC-ADFA-D42C4327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9A40-DFE7-466D-A7C4-86A0A5DC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754A-6EAD-4260-BD98-CEC2B794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76C-B84A-4C39-8EEB-F534AEEA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F88-9727-4F77-A31E-E4E8D5DF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80A-5736-4A50-A988-74FAEA3C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E628-3D5F-46DF-84BE-EE3A13D1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48E-9A00-45C9-B581-3385CB75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B52-DDAB-4889-8D9B-C466E15F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B52-4E86-489A-B04D-0F46B7DC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B38F-828F-4ABA-9F93-5E65582A0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B1FD-39D5-4A58-88FA-926B393EB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253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a démarche d’investig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08200" y="1087560"/>
          <a:ext cx="75358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1087560"/>
                    <a:ext cx="75358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511440" y="76320"/>
            <a:ext cx="2743200" cy="3808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ituation problè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11440" y="685800"/>
            <a:ext cx="2743200" cy="3808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ser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1600200"/>
            <a:ext cx="3670200" cy="36036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blème technique à résoud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ur chaque activité,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n bila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, est réalisé pour répondre au problème posé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533412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démarc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’investig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685800"/>
            <a:ext cx="2362320" cy="3808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Questions élève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2286000"/>
            <a:ext cx="3670200" cy="36036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ctivité(s) élè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600200"/>
            <a:ext cx="1981080" cy="3808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dées élève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67040" y="3247920"/>
            <a:ext cx="2233800" cy="90036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maîtrise des techni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3247920"/>
            <a:ext cx="2233440" cy="90036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fais appel à la démarche technolog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43000" y="2057040"/>
            <a:ext cx="1904760" cy="380880"/>
            <a:chOff x="1143000" y="2057040"/>
            <a:chExt cx="1904760" cy="380880"/>
          </a:xfrm>
        </p:grpSpPr>
        <p:sp>
          <p:nvSpPr>
            <p:cNvPr id="104" name=""/>
            <p:cNvSpPr/>
            <p:nvPr/>
          </p:nvSpPr>
          <p:spPr>
            <a:xfrm>
              <a:off x="1143000" y="2437920"/>
              <a:ext cx="190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143000" y="2057040"/>
              <a:ext cx="0" cy="38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 flipH="1">
            <a:off x="2209320" y="175248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4495680"/>
            <a:ext cx="2017800" cy="381240"/>
          </a:xfrm>
          <a:prstGeom prst="rect">
            <a:avLst/>
          </a:prstGeom>
          <a:gradFill rotWithShape="0">
            <a:gsLst>
              <a:gs pos="0">
                <a:srgbClr val="fedbdb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raison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495680"/>
            <a:ext cx="2362320" cy="1447920"/>
          </a:xfrm>
          <a:prstGeom prst="rect">
            <a:avLst/>
          </a:prstGeom>
          <a:gradFill rotWithShape="0">
            <a:gsLst>
              <a:gs pos="0">
                <a:srgbClr val="fedbdb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’observation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à partir du réel, de photos, d’un film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 solutions existante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s documents :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texte, graphique, tableau, 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75040" y="5181480"/>
            <a:ext cx="2017800" cy="990720"/>
          </a:xfrm>
          <a:prstGeom prst="rect">
            <a:avLst/>
          </a:prstGeom>
          <a:gradFill rotWithShape="0">
            <a:gsLst>
              <a:gs pos="0">
                <a:srgbClr val="fedbdb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commun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Ora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Par écr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24360" y="618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247920"/>
            <a:ext cx="2233440" cy="90036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prends des inform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705360" y="1143000"/>
            <a:ext cx="1143360" cy="609120"/>
            <a:chOff x="6705360" y="1143000"/>
            <a:chExt cx="1143360" cy="609120"/>
          </a:xfrm>
        </p:grpSpPr>
        <p:sp>
          <p:nvSpPr>
            <p:cNvPr id="113" name=""/>
            <p:cNvSpPr/>
            <p:nvPr/>
          </p:nvSpPr>
          <p:spPr>
            <a:xfrm flipH="1">
              <a:off x="6705360" y="17521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848720" y="1143000"/>
              <a:ext cx="0" cy="60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92840" y="4114440"/>
            <a:ext cx="1879200" cy="533520"/>
            <a:chOff x="5892840" y="4114440"/>
            <a:chExt cx="1879200" cy="533520"/>
          </a:xfrm>
        </p:grpSpPr>
        <p:sp>
          <p:nvSpPr>
            <p:cNvPr id="116" name=""/>
            <p:cNvSpPr/>
            <p:nvPr/>
          </p:nvSpPr>
          <p:spPr>
            <a:xfrm flipH="1">
              <a:off x="5892840" y="4647960"/>
              <a:ext cx="187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772040" y="411444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0" y="431964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’utili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56840" y="3581280"/>
            <a:ext cx="433080" cy="728280"/>
            <a:chOff x="456840" y="3581280"/>
            <a:chExt cx="433080" cy="728280"/>
          </a:xfrm>
        </p:grpSpPr>
        <p:sp>
          <p:nvSpPr>
            <p:cNvPr id="120" name=""/>
            <p:cNvSpPr/>
            <p:nvPr/>
          </p:nvSpPr>
          <p:spPr>
            <a:xfrm flipH="1">
              <a:off x="456840" y="3581280"/>
              <a:ext cx="43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" y="3581280"/>
              <a:ext cx="0" cy="72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52280" y="457200"/>
            <a:ext cx="2286000" cy="380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jet techn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438280" y="304920"/>
            <a:ext cx="1047600" cy="328320"/>
            <a:chOff x="2438280" y="304920"/>
            <a:chExt cx="1047600" cy="328320"/>
          </a:xfrm>
        </p:grpSpPr>
        <p:sp>
          <p:nvSpPr>
            <p:cNvPr id="124" name=""/>
            <p:cNvSpPr/>
            <p:nvPr/>
          </p:nvSpPr>
          <p:spPr>
            <a:xfrm>
              <a:off x="2787840" y="304920"/>
              <a:ext cx="69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780280" y="304920"/>
              <a:ext cx="684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609480"/>
              <a:ext cx="34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800600" y="457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914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1066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1981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276720" y="4648320"/>
            <a:ext cx="609120" cy="380880"/>
            <a:chOff x="3276720" y="4648320"/>
            <a:chExt cx="609120" cy="380880"/>
          </a:xfrm>
        </p:grpSpPr>
        <p:sp>
          <p:nvSpPr>
            <p:cNvPr id="132" name=""/>
            <p:cNvSpPr/>
            <p:nvPr/>
          </p:nvSpPr>
          <p:spPr>
            <a:xfrm>
              <a:off x="3479760" y="4648320"/>
              <a:ext cx="406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79760" y="464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76720" y="5029200"/>
              <a:ext cx="20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479760" y="5029200"/>
            <a:ext cx="406440" cy="761760"/>
            <a:chOff x="3479760" y="5029200"/>
            <a:chExt cx="406440" cy="761760"/>
          </a:xfrm>
        </p:grpSpPr>
        <p:sp>
          <p:nvSpPr>
            <p:cNvPr id="136" name=""/>
            <p:cNvSpPr/>
            <p:nvPr/>
          </p:nvSpPr>
          <p:spPr>
            <a:xfrm>
              <a:off x="3479760" y="5790960"/>
              <a:ext cx="40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79760" y="502920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724280"/>
            <a:ext cx="457200" cy="761760"/>
            <a:chOff x="457200" y="4724280"/>
            <a:chExt cx="457200" cy="761760"/>
          </a:xfrm>
        </p:grpSpPr>
        <p:sp>
          <p:nvSpPr>
            <p:cNvPr id="139" name=""/>
            <p:cNvSpPr/>
            <p:nvPr/>
          </p:nvSpPr>
          <p:spPr>
            <a:xfrm>
              <a:off x="457200" y="548604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72428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824360" y="48909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771640" y="614520"/>
            <a:ext cx="728640" cy="328320"/>
            <a:chOff x="2771640" y="614520"/>
            <a:chExt cx="728640" cy="328320"/>
          </a:xfrm>
        </p:grpSpPr>
        <p:sp>
          <p:nvSpPr>
            <p:cNvPr id="143" name=""/>
            <p:cNvSpPr/>
            <p:nvPr/>
          </p:nvSpPr>
          <p:spPr>
            <a:xfrm>
              <a:off x="2771640" y="928800"/>
              <a:ext cx="72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772360" y="614520"/>
              <a:ext cx="612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H="1">
            <a:off x="4787640" y="2647800"/>
            <a:ext cx="4680" cy="605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05280" y="4157640"/>
            <a:ext cx="14400" cy="3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048040" y="2676240"/>
            <a:ext cx="2757240" cy="552600"/>
            <a:chOff x="2048040" y="2676240"/>
            <a:chExt cx="2757240" cy="552600"/>
          </a:xfrm>
        </p:grpSpPr>
        <p:sp>
          <p:nvSpPr>
            <p:cNvPr id="148" name=""/>
            <p:cNvSpPr/>
            <p:nvPr/>
          </p:nvSpPr>
          <p:spPr>
            <a:xfrm>
              <a:off x="2057040" y="2939040"/>
              <a:ext cx="0" cy="28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48040" y="2920680"/>
              <a:ext cx="275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790880" y="2676240"/>
              <a:ext cx="0" cy="23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781880" y="2692080"/>
            <a:ext cx="3028680" cy="552600"/>
            <a:chOff x="4781880" y="2692080"/>
            <a:chExt cx="3028680" cy="552600"/>
          </a:xfrm>
        </p:grpSpPr>
        <p:sp>
          <p:nvSpPr>
            <p:cNvPr id="152" name=""/>
            <p:cNvSpPr/>
            <p:nvPr/>
          </p:nvSpPr>
          <p:spPr>
            <a:xfrm>
              <a:off x="7800480" y="2954880"/>
              <a:ext cx="0" cy="28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781880" y="2936520"/>
              <a:ext cx="30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797720" y="2692080"/>
              <a:ext cx="0" cy="23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889360" y="2036880"/>
            <a:ext cx="4719600" cy="947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Comment les ponts tiennent debout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97360" y="2308320"/>
            <a:ext cx="4719600" cy="947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Comment le tablier est-il soutenu par la structure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357720" y="3843360"/>
          <a:ext cx="3878280" cy="21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3843360"/>
                    <a:ext cx="3878280" cy="21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406680" y="2676600"/>
          <a:ext cx="4384800" cy="387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06680" y="2676600"/>
                    <a:ext cx="43848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344760" y="2852640"/>
          <a:ext cx="4805640" cy="3622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4760" y="2852640"/>
                    <a:ext cx="4805640" cy="36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838080" y="1698480"/>
          <a:ext cx="6875640" cy="2724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1698480"/>
                    <a:ext cx="687564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400040" y="1843200"/>
          <a:ext cx="6343920" cy="3171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00040" y="1843200"/>
                    <a:ext cx="634392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987480" y="766800"/>
          <a:ext cx="7170840" cy="5324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87480" y="766800"/>
                    <a:ext cx="717084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901800" y="1436760"/>
          <a:ext cx="7164360" cy="3933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01800" y="1436760"/>
                    <a:ext cx="716436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171440" y="1471680"/>
          <a:ext cx="6904080" cy="3886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71440" y="1471680"/>
                    <a:ext cx="6904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9:34:50Z</dcterms:created>
  <dc:creator>Régis Rigaud</dc:creator>
  <dc:description/>
  <dc:language>en-US</dc:language>
  <cp:lastModifiedBy>*</cp:lastModifiedBy>
  <dcterms:modified xsi:type="dcterms:W3CDTF">2009-02-18T01:06:11Z</dcterms:modified>
  <cp:revision>23</cp:revision>
  <dc:subject/>
  <dc:title>Présentation PowerPoint</dc:title>
</cp:coreProperties>
</file>