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DE8-F7F6-4F17-B3D1-322A7370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506-2229-437A-B882-0BDFD463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E37-4426-4FFC-93AF-B7019724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BD9-E832-4F5A-84C2-15759ADB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11E6-7CA7-40EF-93F9-5DFFF9D5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93A-1C2F-482C-9624-8A586CE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55D-196F-4327-8125-4B561FA1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3E6F-0636-4133-8244-1006082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19F1-E3AC-4D57-852B-F265E0D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EFC3-F157-42EB-B6FF-B3D2147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881-9163-4642-953C-C15EB7A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BD2-791D-459E-B1B9-B956AC7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D79-6D40-460B-95C3-20F3CE0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9F1D-9251-4535-AEAF-51DEDA6C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CA8-E7B6-43C4-9995-EAED6075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9CF-6B87-4197-9E9F-CA0B3B13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1B7F-1D95-4D66-A5EF-65522B1B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9F9-880F-4F93-A97A-A5584962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A59-CFBC-47FA-9727-42C1A97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BF6-F30D-40D0-A6DF-83A91F9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30E-A2E7-4273-8E48-A2D20B0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D03-8362-48F3-94DA-34D3EE3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343-D3FC-4F01-9DBA-5FE1C3A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184-C6ED-4737-8F37-2DF8F6D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030B99-0467-4DF9-B0B2-4A93E8B23228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3DFA43-A040-4888-B1C1-8C140AF6B921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citivit&#233;%201%20bilan.od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eunes.edf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3360"/>
            <a:ext cx="4174920" cy="626436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360"/>
              <a:gd name="textAreaBottom" fmla="*/ 6060600 h 6264360"/>
            </a:gdLst>
            <a:ahLst/>
            <a:rect l="textAreaLeft" t="textAreaTop" r="textAreaRight" b="textAreaBottom"/>
            <a:pathLst>
              <a:path w="21600" h="32409">
                <a:moveTo>
                  <a:pt x="3600" y="0"/>
                </a:moveTo>
                <a:arcTo wR="3600" hR="3600" stAng="16200000" swAng="-5400000"/>
                <a:lnTo>
                  <a:pt x="0" y="28809"/>
                </a:lnTo>
                <a:arcTo wR="3600" hR="3600" stAng="10800000" swAng="-5400000"/>
                <a:lnTo>
                  <a:pt x="18000" y="32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85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393" name="Text Box 4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5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7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952880" y="3657600"/>
            <a:ext cx="3657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chercher et décrire plusieurs solutions techniques pour répondre à une fonction donn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952880" y="7621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olutions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4952880" y="4800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’item connaissance\capacité est de Niveau 2 : « je sais en parler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2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09" name="Text Box 3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4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716360" y="476280"/>
            <a:ext cx="4330800" cy="856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fr-FR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ICHE BILAN ACTIVITE 1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Object 16"/>
          <p:cNvGraphicFramePr/>
          <p:nvPr/>
        </p:nvGraphicFramePr>
        <p:xfrm>
          <a:off x="5025960" y="1341360"/>
          <a:ext cx="3795840" cy="53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5960" y="1341360"/>
                    <a:ext cx="379584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27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4932360" y="2165400"/>
            <a:ext cx="390672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Quelles sont les différentes sources d'énergie renouvelable 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1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627280" y="1787400"/>
            <a:ext cx="1515960" cy="2449440"/>
            <a:chOff x="2627280" y="1787400"/>
            <a:chExt cx="1515960" cy="2449440"/>
          </a:xfrm>
        </p:grpSpPr>
        <p:sp>
          <p:nvSpPr>
            <p:cNvPr id="439" name="Text Box 9"/>
            <p:cNvSpPr/>
            <p:nvPr/>
          </p:nvSpPr>
          <p:spPr>
            <a:xfrm>
              <a:off x="2627280" y="2142720"/>
              <a:ext cx="1515960" cy="175464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>
              <a:off x="3312000" y="178740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11"/>
            <p:cNvSpPr/>
            <p:nvPr/>
          </p:nvSpPr>
          <p:spPr>
            <a:xfrm>
              <a:off x="3198240" y="3822840"/>
              <a:ext cx="290160" cy="414000"/>
            </a:xfrm>
            <a:prstGeom prst="downArrow">
              <a:avLst>
                <a:gd name="adj1" fmla="val 50000"/>
                <a:gd name="adj2" fmla="val 35670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Text Box 12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4788000" y="620640"/>
            <a:ext cx="38876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dentification des sources d’éner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cherche sur Internet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ttp://energies.edf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eunes.edf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édaction d’un compte rendu par groupe avec un traitement de tex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une définition, une pho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isualisation des travaux au vidéo-projecte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ise en commun du travail – bi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Jérôme</cp:lastModifiedBy>
  <dcterms:modified xsi:type="dcterms:W3CDTF">2009-02-18T10:07:29Z</dcterms:modified>
  <cp:revision>49</cp:revision>
  <dc:subject/>
  <dc:title>LA TECHNOLOGIE AU COLLEGE</dc:title>
</cp:coreProperties>
</file>