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D076-EEB4-41B6-BBFE-6FCD61B8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7D8D-1E4F-4DB3-B56C-31B03A0F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DB19-AC0B-4484-93EC-C4388DF8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2545-EC63-4B4B-A962-A6738DB1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F0FF-63C0-4B86-BE9C-B0ECCF9E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3B58-A937-41F9-9AC8-64FF8C2E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9B6E-A278-4DB3-9A29-7EC7C2F4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C5FB-4690-41C9-BEAE-195DE3C8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1769-083D-4D29-B243-7F9DDD20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651E-FFF4-45F8-9AE8-21559833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AA6D-ADA1-4E5D-9A5C-EDB5F0A0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07F3-1173-4607-A96A-4AF5C3C7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333C-50B9-4104-8DE9-64562887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C8F9-7E06-45FE-8DAF-9DBFB25F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4E16-36FC-4EB3-9080-9AC677CD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CB60-3E78-49B4-B58C-EB8F93FA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7B6B-C228-4348-A776-E47DFBE7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A467-607E-44D2-A304-0D925D76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B299-D550-4A6E-8445-00EE8D20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4E0-E443-495F-8735-38F39A19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456D-E93C-4DE2-9F35-683B879B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E6DD-2563-4A91-A8FD-E41733E7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3303-35FD-4559-895B-EBB83073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CF44-ABF6-4F69-9FD5-169B4B41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3051-4448-4AF5-809B-1D8198D6D2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5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8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2E89-E3C8-4905-9F67-E1C818ED0DE5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880" y="253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66"/>
                </a:solidFill>
                <a:latin typeface="Arial"/>
              </a:rPr>
              <a:t>La démarche d’investig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511440" y="76320"/>
            <a:ext cx="27432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tuation problè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511440" y="685800"/>
            <a:ext cx="2743200" cy="380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ser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048120" y="1600200"/>
            <a:ext cx="3670200" cy="360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ème technique à résoud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ur chaque activité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 bil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est réalisé pour répondre au problème posé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6172200" y="533412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démarc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’investig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629400" y="685800"/>
            <a:ext cx="2362320" cy="380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stions élève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048120" y="2286000"/>
            <a:ext cx="3670200" cy="360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vité(s) élè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28600" y="1600200"/>
            <a:ext cx="1981080" cy="380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ées élève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3767040" y="3247920"/>
            <a:ext cx="2233800" cy="900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 maîtrise des techni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6705720" y="3247920"/>
            <a:ext cx="2233440" cy="900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 fais appel à la démarche technolog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Group 16"/>
          <p:cNvGrpSpPr/>
          <p:nvPr/>
        </p:nvGrpSpPr>
        <p:grpSpPr>
          <a:xfrm>
            <a:off x="1143000" y="2057040"/>
            <a:ext cx="1904760" cy="380880"/>
            <a:chOff x="1143000" y="2057040"/>
            <a:chExt cx="1904760" cy="380880"/>
          </a:xfrm>
        </p:grpSpPr>
        <p:sp>
          <p:nvSpPr>
            <p:cNvPr id="103" name="Line 17"/>
            <p:cNvSpPr/>
            <p:nvPr/>
          </p:nvSpPr>
          <p:spPr>
            <a:xfrm>
              <a:off x="1143000" y="2437920"/>
              <a:ext cx="190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 flipV="1">
              <a:off x="1143000" y="2057040"/>
              <a:ext cx="0" cy="38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Line 19"/>
          <p:cNvSpPr/>
          <p:nvPr/>
        </p:nvSpPr>
        <p:spPr>
          <a:xfrm flipH="1">
            <a:off x="2209320" y="175248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3886200" y="4495680"/>
            <a:ext cx="2017800" cy="3812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dcd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 raison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914400" y="4495680"/>
            <a:ext cx="2362320" cy="144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dcd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’observ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à partir du réel, de photos, d’un film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solutions existant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es documents 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texte, graphique, tableau, 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3875040" y="5181480"/>
            <a:ext cx="2017800" cy="990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dcd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 commun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ra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ar écr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30"/>
          <p:cNvSpPr/>
          <p:nvPr/>
        </p:nvSpPr>
        <p:spPr>
          <a:xfrm>
            <a:off x="4824360" y="618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32"/>
          <p:cNvSpPr/>
          <p:nvPr/>
        </p:nvSpPr>
        <p:spPr>
          <a:xfrm>
            <a:off x="914400" y="3247920"/>
            <a:ext cx="2233440" cy="900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 prends des inform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Group 33"/>
          <p:cNvGrpSpPr/>
          <p:nvPr/>
        </p:nvGrpSpPr>
        <p:grpSpPr>
          <a:xfrm>
            <a:off x="6705360" y="1143000"/>
            <a:ext cx="1143360" cy="609120"/>
            <a:chOff x="6705360" y="1143000"/>
            <a:chExt cx="1143360" cy="609120"/>
          </a:xfrm>
        </p:grpSpPr>
        <p:sp>
          <p:nvSpPr>
            <p:cNvPr id="112" name="Line 34"/>
            <p:cNvSpPr/>
            <p:nvPr/>
          </p:nvSpPr>
          <p:spPr>
            <a:xfrm flipH="1">
              <a:off x="6705360" y="17521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Line 35"/>
            <p:cNvSpPr/>
            <p:nvPr/>
          </p:nvSpPr>
          <p:spPr>
            <a:xfrm flipV="1">
              <a:off x="7848720" y="1143000"/>
              <a:ext cx="0" cy="60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Group 36"/>
          <p:cNvGrpSpPr/>
          <p:nvPr/>
        </p:nvGrpSpPr>
        <p:grpSpPr>
          <a:xfrm>
            <a:off x="5892840" y="4114440"/>
            <a:ext cx="1879200" cy="533520"/>
            <a:chOff x="5892840" y="4114440"/>
            <a:chExt cx="1879200" cy="533520"/>
          </a:xfrm>
        </p:grpSpPr>
        <p:sp>
          <p:nvSpPr>
            <p:cNvPr id="115" name="Line 37"/>
            <p:cNvSpPr/>
            <p:nvPr/>
          </p:nvSpPr>
          <p:spPr>
            <a:xfrm flipH="1">
              <a:off x="5892840" y="4647960"/>
              <a:ext cx="187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Line 38"/>
            <p:cNvSpPr/>
            <p:nvPr/>
          </p:nvSpPr>
          <p:spPr>
            <a:xfrm flipV="1">
              <a:off x="7772040" y="411444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Text Box 42"/>
          <p:cNvSpPr/>
          <p:nvPr/>
        </p:nvSpPr>
        <p:spPr>
          <a:xfrm>
            <a:off x="0" y="4319640"/>
            <a:ext cx="97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J’utili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Group 66"/>
          <p:cNvGrpSpPr/>
          <p:nvPr/>
        </p:nvGrpSpPr>
        <p:grpSpPr>
          <a:xfrm>
            <a:off x="456840" y="3581280"/>
            <a:ext cx="433080" cy="728280"/>
            <a:chOff x="456840" y="3581280"/>
            <a:chExt cx="433080" cy="728280"/>
          </a:xfrm>
        </p:grpSpPr>
        <p:sp>
          <p:nvSpPr>
            <p:cNvPr id="119" name="Line 40"/>
            <p:cNvSpPr/>
            <p:nvPr/>
          </p:nvSpPr>
          <p:spPr>
            <a:xfrm flipH="1">
              <a:off x="456840" y="3581280"/>
              <a:ext cx="43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Line 43"/>
            <p:cNvSpPr/>
            <p:nvPr/>
          </p:nvSpPr>
          <p:spPr>
            <a:xfrm>
              <a:off x="457200" y="3581280"/>
              <a:ext cx="0" cy="72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Text Box 45"/>
          <p:cNvSpPr/>
          <p:nvPr/>
        </p:nvSpPr>
        <p:spPr>
          <a:xfrm>
            <a:off x="152280" y="457200"/>
            <a:ext cx="2286000" cy="3808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t techn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Group 69"/>
          <p:cNvGrpSpPr/>
          <p:nvPr/>
        </p:nvGrpSpPr>
        <p:grpSpPr>
          <a:xfrm>
            <a:off x="2438280" y="304920"/>
            <a:ext cx="1047600" cy="328320"/>
            <a:chOff x="2438280" y="304920"/>
            <a:chExt cx="1047600" cy="328320"/>
          </a:xfrm>
        </p:grpSpPr>
        <p:sp>
          <p:nvSpPr>
            <p:cNvPr id="123" name="Line 20"/>
            <p:cNvSpPr/>
            <p:nvPr/>
          </p:nvSpPr>
          <p:spPr>
            <a:xfrm>
              <a:off x="2787840" y="304920"/>
              <a:ext cx="698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Line 47"/>
            <p:cNvSpPr/>
            <p:nvPr/>
          </p:nvSpPr>
          <p:spPr>
            <a:xfrm flipH="1">
              <a:off x="2780280" y="304920"/>
              <a:ext cx="6840" cy="32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Line 48"/>
            <p:cNvSpPr/>
            <p:nvPr/>
          </p:nvSpPr>
          <p:spPr>
            <a:xfrm>
              <a:off x="2438280" y="609480"/>
              <a:ext cx="34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Line 49"/>
          <p:cNvSpPr/>
          <p:nvPr/>
        </p:nvSpPr>
        <p:spPr>
          <a:xfrm>
            <a:off x="4800600" y="457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51"/>
          <p:cNvSpPr/>
          <p:nvPr/>
        </p:nvSpPr>
        <p:spPr>
          <a:xfrm>
            <a:off x="6248520" y="9144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52"/>
          <p:cNvSpPr/>
          <p:nvPr/>
        </p:nvSpPr>
        <p:spPr>
          <a:xfrm>
            <a:off x="4800600" y="1066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53"/>
          <p:cNvSpPr/>
          <p:nvPr/>
        </p:nvSpPr>
        <p:spPr>
          <a:xfrm>
            <a:off x="4800600" y="1981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Group 61"/>
          <p:cNvGrpSpPr/>
          <p:nvPr/>
        </p:nvGrpSpPr>
        <p:grpSpPr>
          <a:xfrm>
            <a:off x="3276720" y="4648320"/>
            <a:ext cx="609120" cy="380880"/>
            <a:chOff x="3276720" y="4648320"/>
            <a:chExt cx="609120" cy="380880"/>
          </a:xfrm>
        </p:grpSpPr>
        <p:sp>
          <p:nvSpPr>
            <p:cNvPr id="131" name="Line 55"/>
            <p:cNvSpPr/>
            <p:nvPr/>
          </p:nvSpPr>
          <p:spPr>
            <a:xfrm>
              <a:off x="3479760" y="4648320"/>
              <a:ext cx="406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Line 56"/>
            <p:cNvSpPr/>
            <p:nvPr/>
          </p:nvSpPr>
          <p:spPr>
            <a:xfrm>
              <a:off x="3479760" y="46483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Line 57"/>
            <p:cNvSpPr/>
            <p:nvPr/>
          </p:nvSpPr>
          <p:spPr>
            <a:xfrm>
              <a:off x="3276720" y="5029200"/>
              <a:ext cx="20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Group 60"/>
          <p:cNvGrpSpPr/>
          <p:nvPr/>
        </p:nvGrpSpPr>
        <p:grpSpPr>
          <a:xfrm>
            <a:off x="3479760" y="5029200"/>
            <a:ext cx="406440" cy="761760"/>
            <a:chOff x="3479760" y="5029200"/>
            <a:chExt cx="406440" cy="761760"/>
          </a:xfrm>
        </p:grpSpPr>
        <p:sp>
          <p:nvSpPr>
            <p:cNvPr id="135" name="Line 58"/>
            <p:cNvSpPr/>
            <p:nvPr/>
          </p:nvSpPr>
          <p:spPr>
            <a:xfrm>
              <a:off x="3479760" y="5790960"/>
              <a:ext cx="40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Line 59"/>
            <p:cNvSpPr/>
            <p:nvPr/>
          </p:nvSpPr>
          <p:spPr>
            <a:xfrm>
              <a:off x="3479760" y="502920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Group 62"/>
          <p:cNvGrpSpPr/>
          <p:nvPr/>
        </p:nvGrpSpPr>
        <p:grpSpPr>
          <a:xfrm>
            <a:off x="457200" y="4724280"/>
            <a:ext cx="457200" cy="761760"/>
            <a:chOff x="457200" y="4724280"/>
            <a:chExt cx="457200" cy="761760"/>
          </a:xfrm>
        </p:grpSpPr>
        <p:sp>
          <p:nvSpPr>
            <p:cNvPr id="138" name="Line 63"/>
            <p:cNvSpPr/>
            <p:nvPr/>
          </p:nvSpPr>
          <p:spPr>
            <a:xfrm>
              <a:off x="457200" y="548604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Line 64"/>
            <p:cNvSpPr/>
            <p:nvPr/>
          </p:nvSpPr>
          <p:spPr>
            <a:xfrm>
              <a:off x="457200" y="472428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" name="Line 65"/>
          <p:cNvSpPr/>
          <p:nvPr/>
        </p:nvSpPr>
        <p:spPr>
          <a:xfrm>
            <a:off x="4824360" y="489096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Group 70"/>
          <p:cNvGrpSpPr/>
          <p:nvPr/>
        </p:nvGrpSpPr>
        <p:grpSpPr>
          <a:xfrm>
            <a:off x="2771640" y="614520"/>
            <a:ext cx="728640" cy="328320"/>
            <a:chOff x="2771640" y="614520"/>
            <a:chExt cx="728640" cy="328320"/>
          </a:xfrm>
        </p:grpSpPr>
        <p:sp>
          <p:nvSpPr>
            <p:cNvPr id="142" name="Line 46"/>
            <p:cNvSpPr/>
            <p:nvPr/>
          </p:nvSpPr>
          <p:spPr>
            <a:xfrm>
              <a:off x="2771640" y="928800"/>
              <a:ext cx="72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67"/>
            <p:cNvSpPr/>
            <p:nvPr/>
          </p:nvSpPr>
          <p:spPr>
            <a:xfrm flipH="1">
              <a:off x="2772360" y="614520"/>
              <a:ext cx="6120" cy="32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" name="Line 71"/>
          <p:cNvSpPr/>
          <p:nvPr/>
        </p:nvSpPr>
        <p:spPr>
          <a:xfrm flipH="1">
            <a:off x="4787640" y="2647800"/>
            <a:ext cx="4680" cy="605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74"/>
          <p:cNvSpPr/>
          <p:nvPr/>
        </p:nvSpPr>
        <p:spPr>
          <a:xfrm>
            <a:off x="4805280" y="4157640"/>
            <a:ext cx="14400" cy="33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Group 78"/>
          <p:cNvGrpSpPr/>
          <p:nvPr/>
        </p:nvGrpSpPr>
        <p:grpSpPr>
          <a:xfrm>
            <a:off x="2048040" y="2676240"/>
            <a:ext cx="2757240" cy="552600"/>
            <a:chOff x="2048040" y="2676240"/>
            <a:chExt cx="2757240" cy="552600"/>
          </a:xfrm>
        </p:grpSpPr>
        <p:sp>
          <p:nvSpPr>
            <p:cNvPr id="147" name="Line 72"/>
            <p:cNvSpPr/>
            <p:nvPr/>
          </p:nvSpPr>
          <p:spPr>
            <a:xfrm>
              <a:off x="2057040" y="2939040"/>
              <a:ext cx="0" cy="28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Line 75"/>
            <p:cNvSpPr/>
            <p:nvPr/>
          </p:nvSpPr>
          <p:spPr>
            <a:xfrm>
              <a:off x="2048040" y="2920680"/>
              <a:ext cx="275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Line 76"/>
            <p:cNvSpPr/>
            <p:nvPr/>
          </p:nvSpPr>
          <p:spPr>
            <a:xfrm flipV="1">
              <a:off x="4790880" y="2676240"/>
              <a:ext cx="0" cy="23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Group 79"/>
          <p:cNvGrpSpPr/>
          <p:nvPr/>
        </p:nvGrpSpPr>
        <p:grpSpPr>
          <a:xfrm>
            <a:off x="4781880" y="2692080"/>
            <a:ext cx="3028680" cy="552600"/>
            <a:chOff x="4781880" y="2692080"/>
            <a:chExt cx="3028680" cy="552600"/>
          </a:xfrm>
        </p:grpSpPr>
        <p:sp>
          <p:nvSpPr>
            <p:cNvPr id="151" name="Line 80"/>
            <p:cNvSpPr/>
            <p:nvPr/>
          </p:nvSpPr>
          <p:spPr>
            <a:xfrm>
              <a:off x="7800480" y="2954880"/>
              <a:ext cx="0" cy="28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81"/>
            <p:cNvSpPr/>
            <p:nvPr/>
          </p:nvSpPr>
          <p:spPr>
            <a:xfrm flipH="1">
              <a:off x="4781880" y="2936520"/>
              <a:ext cx="30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Line 82"/>
            <p:cNvSpPr/>
            <p:nvPr/>
          </p:nvSpPr>
          <p:spPr>
            <a:xfrm flipV="1">
              <a:off x="4797720" y="2692080"/>
              <a:ext cx="0" cy="23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Text Box 84"/>
          <p:cNvSpPr/>
          <p:nvPr/>
        </p:nvSpPr>
        <p:spPr>
          <a:xfrm>
            <a:off x="152280" y="909720"/>
            <a:ext cx="2286000" cy="100476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 chalet implanté dans un coin très isol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85"/>
          <p:cNvSpPr/>
          <p:nvPr/>
        </p:nvSpPr>
        <p:spPr>
          <a:xfrm>
            <a:off x="2573280" y="569880"/>
            <a:ext cx="6205680" cy="1582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personne habitant dans un coin très isolé décide d’utiliser une énergie « propre » pour s'éclairer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86"/>
          <p:cNvSpPr/>
          <p:nvPr/>
        </p:nvSpPr>
        <p:spPr>
          <a:xfrm>
            <a:off x="2521080" y="2052720"/>
            <a:ext cx="5251320" cy="898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Quelles sont les différentes sources d'énergie renouvelable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87"/>
          <p:cNvSpPr/>
          <p:nvPr/>
        </p:nvSpPr>
        <p:spPr>
          <a:xfrm>
            <a:off x="452520" y="6002280"/>
            <a:ext cx="3386160" cy="511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dcd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cumentation Internet avec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http://energies.edf.com/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par exemp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9:34:50Z</dcterms:created>
  <dc:creator>Régis Rigaud</dc:creator>
  <dc:description/>
  <dc:language>en-US</dc:language>
  <cp:lastModifiedBy>Jérôme</cp:lastModifiedBy>
  <dcterms:modified xsi:type="dcterms:W3CDTF">2009-02-18T11:24:44Z</dcterms:modified>
  <cp:revision>26</cp:revision>
  <dc:subject/>
  <dc:title>Présentation PowerPoint</dc:title>
</cp:coreProperties>
</file>