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5D8-2DD0-450A-A75E-C6510225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7BE-1ECF-442E-8B3F-524B2B75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434-DA13-45D9-9D66-81378BAB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5BD-D1B6-4393-9CEA-6E0185A0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A8DC-0336-47E9-B5F9-197F3A38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9903-4021-404A-82F4-E77753D3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9237-5294-408B-961E-3CD54E18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E74A-8BEC-4C5E-98C3-4BDEEAB0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3544-84EF-45B1-9903-D48E2408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DB22-FCCE-4F41-9323-A4D7A72E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D390-FE5E-4CA6-8BC9-CFCBE865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85D-CD73-4649-9BC0-9517F311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5D0F-BFB6-4529-96D0-04E2069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525D-678D-4A32-92CD-B0A1CF30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2016-4105-4A2A-A2C0-114B51A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F604-BFB5-410B-88BE-1E9D1383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1BF7-CA11-4579-BD9E-8645F282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D21-3A85-467B-942F-88FE3BF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ECC-D804-483C-9EAB-1B9FE79E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610-4B04-4DE6-9B12-79CEE512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CEC-55F5-4C2D-8514-3EB8FF18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537-86A9-4558-A101-10A7B0AB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B9D-D84E-4B07-A57E-2F73FE5C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14B-A858-45A8-B10F-A35496E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FF3491-77A8-4B9C-B9CA-65F70AA56B73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08CA4F-419A-443E-82C1-AE6F2EFDA406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citivit&#233;%202%20bilan.od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85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0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732480" cy="52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4800600" y="3048120"/>
            <a:ext cx="4038480" cy="167616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2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4724280" y="152280"/>
            <a:ext cx="4038840" cy="24386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4952880" y="320040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apacités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4952880" y="3657600"/>
            <a:ext cx="3657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ttre en relation des contraintes que l’objet technique doit respec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4952880" y="3049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naissanc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5580000" y="836640"/>
            <a:ext cx="23558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traintes liées au fonctionn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6400800" y="2438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6400800" y="5410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4800600" y="6004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1 Brique élémenta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du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4952880" y="4800600"/>
            <a:ext cx="3657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’item connaissance\capacité est de Niveau 2 : « je sais en parler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05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4705200" y="404640"/>
            <a:ext cx="4438800" cy="856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0" lang="fr-FR" sz="1600" spc="-1" strike="noStrike" u="sng">
                <a:solidFill>
                  <a:srgbClr val="ffffff"/>
                </a:solidFill>
                <a:uFillTx/>
                <a:latin typeface="Tahoma"/>
              </a:rPr>
              <a:t>F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ICHE BILAN    ACTIVITE 2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16"/>
          <p:cNvGraphicFramePr/>
          <p:nvPr/>
        </p:nvGraphicFramePr>
        <p:xfrm>
          <a:off x="4932360" y="1268280"/>
          <a:ext cx="3882960" cy="536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268280"/>
                    <a:ext cx="388296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23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Text Box 12"/>
          <p:cNvSpPr/>
          <p:nvPr/>
        </p:nvSpPr>
        <p:spPr>
          <a:xfrm>
            <a:off x="4932360" y="2165400"/>
            <a:ext cx="3906720" cy="131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Quelles sont les meilleures  conditions d'utilisations d'un panneau photovoltaïqu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35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Text Box 12"/>
          <p:cNvSpPr/>
          <p:nvPr/>
        </p:nvSpPr>
        <p:spPr>
          <a:xfrm>
            <a:off x="912960" y="5056200"/>
            <a:ext cx="3003480" cy="1316160"/>
          </a:xfrm>
          <a:prstGeom prst="rect">
            <a:avLst/>
          </a:prstGeom>
          <a:solidFill>
            <a:srgbClr val="0d0d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 - Des activités d’apprentissage et des supports adaptés qui mènent à la résolution du problème technologique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réflexion / action / évaluations formati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>
            <a:off x="2284560" y="470052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78"/>
          <p:cNvSpPr/>
          <p:nvPr/>
        </p:nvSpPr>
        <p:spPr>
          <a:xfrm>
            <a:off x="4500720" y="0"/>
            <a:ext cx="4643280" cy="65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Faire des essais av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fférentes cellules 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ir les effets produ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Faire varier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uminosit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Obscurcir une par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 la cell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Connecter les cell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ntre el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chématisation des expériences et ex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80" descr="1"/>
          <p:cNvPicPr/>
          <p:nvPr/>
        </p:nvPicPr>
        <p:blipFill>
          <a:blip r:embed="rId1"/>
          <a:stretch/>
        </p:blipFill>
        <p:spPr>
          <a:xfrm>
            <a:off x="7020000" y="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1" descr="2"/>
          <p:cNvPicPr/>
          <p:nvPr/>
        </p:nvPicPr>
        <p:blipFill>
          <a:blip r:embed="rId2"/>
          <a:stretch/>
        </p:blipFill>
        <p:spPr>
          <a:xfrm>
            <a:off x="6372360" y="1268280"/>
            <a:ext cx="1724040" cy="1293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2" descr="3"/>
          <p:cNvPicPr/>
          <p:nvPr/>
        </p:nvPicPr>
        <p:blipFill>
          <a:blip r:embed="rId3"/>
          <a:stretch/>
        </p:blipFill>
        <p:spPr>
          <a:xfrm>
            <a:off x="6948360" y="2781360"/>
            <a:ext cx="1940040" cy="14558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3" descr="4"/>
          <p:cNvPicPr/>
          <p:nvPr/>
        </p:nvPicPr>
        <p:blipFill>
          <a:blip r:embed="rId4"/>
          <a:stretch/>
        </p:blipFill>
        <p:spPr>
          <a:xfrm>
            <a:off x="7020000" y="4437000"/>
            <a:ext cx="1795320" cy="13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Rigaud</dc:creator>
  <dc:description/>
  <dc:language>en-US</dc:language>
  <cp:lastModifiedBy>Jérôme</cp:lastModifiedBy>
  <dcterms:modified xsi:type="dcterms:W3CDTF">2009-02-06T10:58:30Z</dcterms:modified>
  <cp:revision>54</cp:revision>
  <dc:subject/>
  <dc:title>LA TECHNOLOGIE AU COLLEGE</dc:title>
</cp:coreProperties>
</file>