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3EB-935F-4D00-ABE3-F0D60CFA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C4A-49FB-4C56-BA62-8E10EDC9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6EE-3715-4E45-AF45-E62DCAE5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571-CF0C-4D6A-AF41-CFAE0CF0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ED27-448D-43BC-B7DC-B90C5F35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CF8D-72F1-44DD-88DB-D15088C4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2048-6158-49F6-9940-F999D584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3772-A0DF-4085-A8AC-E25CDDEA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CEAD-257C-4634-9D48-B9762B5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14A1-D50D-4B09-8884-F1B87C05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C722-29D6-4B7C-9CD6-2F680E2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C5B-2021-4DE1-8D5E-F0F4723D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B166-9571-4B1B-880A-08C721C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5BEF-983A-45DE-9278-67E90D41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63E1-CEBF-40F4-AD0C-4F959B5B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CBDB-57E5-4B03-B475-8EB237AB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A630-7AE8-4A88-8E9C-FFB99DD5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018-7260-437D-999E-B5E1F1E9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681-1095-43D4-82EB-58AE9CE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F30-D08A-4CE2-8D8A-537049F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C2C-7523-4315-85E1-6097E2BB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585-FB67-4E26-870C-65D58E33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583-5B72-4742-81B5-A48DD6D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3BF-0B3A-4F75-9720-776F6084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CD00-1A76-4F1E-B045-DED8D0510AA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62F7-EFD2-4A8C-B9D4-D13DE63E6A8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53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La démarche d’investig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511440" y="76320"/>
            <a:ext cx="27432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problè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511440" y="685800"/>
            <a:ext cx="274320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8120" y="16002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ème technique à résoud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ur chaque activité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bil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st réalisé pour répondre au problème po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172200" y="533412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émarc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’investi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29400" y="685800"/>
            <a:ext cx="236232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048120" y="22860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é(s) élè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28600" y="1600200"/>
            <a:ext cx="198108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ée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767040" y="3247920"/>
            <a:ext cx="223380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maîtrise des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70572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fais appel à la démarche technolog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1143000" y="2057040"/>
            <a:ext cx="1904760" cy="380880"/>
            <a:chOff x="1143000" y="2057040"/>
            <a:chExt cx="1904760" cy="380880"/>
          </a:xfrm>
        </p:grpSpPr>
        <p:sp>
          <p:nvSpPr>
            <p:cNvPr id="100" name="Line 17"/>
            <p:cNvSpPr/>
            <p:nvPr/>
          </p:nvSpPr>
          <p:spPr>
            <a:xfrm>
              <a:off x="1143000" y="243792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18"/>
            <p:cNvSpPr/>
            <p:nvPr/>
          </p:nvSpPr>
          <p:spPr>
            <a:xfrm flipV="1">
              <a:off x="1143000" y="205704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Line 19"/>
          <p:cNvSpPr/>
          <p:nvPr/>
        </p:nvSpPr>
        <p:spPr>
          <a:xfrm flipH="1">
            <a:off x="2209320" y="175248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3886200" y="4495680"/>
            <a:ext cx="2017800" cy="381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raison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923760" y="4681440"/>
            <a:ext cx="2362320" cy="1005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’observ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à partir du réel (cellules solaires, moteurs, fils de cablages,…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875040" y="5181480"/>
            <a:ext cx="2017800" cy="99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commu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ra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r écr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4824360" y="618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91440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prends des inform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Group 33"/>
          <p:cNvGrpSpPr/>
          <p:nvPr/>
        </p:nvGrpSpPr>
        <p:grpSpPr>
          <a:xfrm>
            <a:off x="6705360" y="1143000"/>
            <a:ext cx="1143360" cy="609120"/>
            <a:chOff x="6705360" y="1143000"/>
            <a:chExt cx="1143360" cy="609120"/>
          </a:xfrm>
        </p:grpSpPr>
        <p:sp>
          <p:nvSpPr>
            <p:cNvPr id="109" name="Line 34"/>
            <p:cNvSpPr/>
            <p:nvPr/>
          </p:nvSpPr>
          <p:spPr>
            <a:xfrm flipH="1">
              <a:off x="6705360" y="17521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 flipV="1">
              <a:off x="7848720" y="1143000"/>
              <a:ext cx="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36"/>
          <p:cNvGrpSpPr/>
          <p:nvPr/>
        </p:nvGrpSpPr>
        <p:grpSpPr>
          <a:xfrm>
            <a:off x="5892840" y="4114440"/>
            <a:ext cx="1879200" cy="533520"/>
            <a:chOff x="5892840" y="4114440"/>
            <a:chExt cx="1879200" cy="533520"/>
          </a:xfrm>
        </p:grpSpPr>
        <p:sp>
          <p:nvSpPr>
            <p:cNvPr id="112" name="Line 37"/>
            <p:cNvSpPr/>
            <p:nvPr/>
          </p:nvSpPr>
          <p:spPr>
            <a:xfrm flipH="1">
              <a:off x="5892840" y="4647960"/>
              <a:ext cx="187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7772040" y="41144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Text Box 42"/>
          <p:cNvSpPr/>
          <p:nvPr/>
        </p:nvSpPr>
        <p:spPr>
          <a:xfrm>
            <a:off x="0" y="43196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’util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66"/>
          <p:cNvGrpSpPr/>
          <p:nvPr/>
        </p:nvGrpSpPr>
        <p:grpSpPr>
          <a:xfrm>
            <a:off x="456840" y="3581280"/>
            <a:ext cx="433080" cy="728280"/>
            <a:chOff x="456840" y="3581280"/>
            <a:chExt cx="433080" cy="728280"/>
          </a:xfrm>
        </p:grpSpPr>
        <p:sp>
          <p:nvSpPr>
            <p:cNvPr id="116" name="Line 40"/>
            <p:cNvSpPr/>
            <p:nvPr/>
          </p:nvSpPr>
          <p:spPr>
            <a:xfrm flipH="1">
              <a:off x="456840" y="3581280"/>
              <a:ext cx="43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3"/>
            <p:cNvSpPr/>
            <p:nvPr/>
          </p:nvSpPr>
          <p:spPr>
            <a:xfrm>
              <a:off x="457200" y="3581280"/>
              <a:ext cx="0" cy="72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Text Box 45"/>
          <p:cNvSpPr/>
          <p:nvPr/>
        </p:nvSpPr>
        <p:spPr>
          <a:xfrm>
            <a:off x="152280" y="457200"/>
            <a:ext cx="2286000" cy="380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t tech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Group 69"/>
          <p:cNvGrpSpPr/>
          <p:nvPr/>
        </p:nvGrpSpPr>
        <p:grpSpPr>
          <a:xfrm>
            <a:off x="2438280" y="304920"/>
            <a:ext cx="1047600" cy="328320"/>
            <a:chOff x="2438280" y="304920"/>
            <a:chExt cx="1047600" cy="328320"/>
          </a:xfrm>
        </p:grpSpPr>
        <p:sp>
          <p:nvSpPr>
            <p:cNvPr id="120" name="Line 20"/>
            <p:cNvSpPr/>
            <p:nvPr/>
          </p:nvSpPr>
          <p:spPr>
            <a:xfrm>
              <a:off x="2787840" y="304920"/>
              <a:ext cx="69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47"/>
            <p:cNvSpPr/>
            <p:nvPr/>
          </p:nvSpPr>
          <p:spPr>
            <a:xfrm flipH="1">
              <a:off x="2780280" y="304920"/>
              <a:ext cx="6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48"/>
            <p:cNvSpPr/>
            <p:nvPr/>
          </p:nvSpPr>
          <p:spPr>
            <a:xfrm>
              <a:off x="2438280" y="609480"/>
              <a:ext cx="3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Line 49"/>
          <p:cNvSpPr/>
          <p:nvPr/>
        </p:nvSpPr>
        <p:spPr>
          <a:xfrm>
            <a:off x="4800600" y="457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1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2"/>
          <p:cNvSpPr/>
          <p:nvPr/>
        </p:nvSpPr>
        <p:spPr>
          <a:xfrm>
            <a:off x="4800600" y="1066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53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3276720" y="4648320"/>
            <a:ext cx="609120" cy="380880"/>
            <a:chOff x="3276720" y="4648320"/>
            <a:chExt cx="609120" cy="380880"/>
          </a:xfrm>
        </p:grpSpPr>
        <p:sp>
          <p:nvSpPr>
            <p:cNvPr id="128" name="Line 55"/>
            <p:cNvSpPr/>
            <p:nvPr/>
          </p:nvSpPr>
          <p:spPr>
            <a:xfrm>
              <a:off x="3479760" y="4648320"/>
              <a:ext cx="40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>
              <a:off x="3479760" y="464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7"/>
            <p:cNvSpPr/>
            <p:nvPr/>
          </p:nvSpPr>
          <p:spPr>
            <a:xfrm>
              <a:off x="3276720" y="502920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Group 60"/>
          <p:cNvGrpSpPr/>
          <p:nvPr/>
        </p:nvGrpSpPr>
        <p:grpSpPr>
          <a:xfrm>
            <a:off x="3479760" y="5029200"/>
            <a:ext cx="406440" cy="761760"/>
            <a:chOff x="3479760" y="5029200"/>
            <a:chExt cx="406440" cy="761760"/>
          </a:xfrm>
        </p:grpSpPr>
        <p:sp>
          <p:nvSpPr>
            <p:cNvPr id="132" name="Line 58"/>
            <p:cNvSpPr/>
            <p:nvPr/>
          </p:nvSpPr>
          <p:spPr>
            <a:xfrm>
              <a:off x="3479760" y="5790960"/>
              <a:ext cx="40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59"/>
            <p:cNvSpPr/>
            <p:nvPr/>
          </p:nvSpPr>
          <p:spPr>
            <a:xfrm>
              <a:off x="3479760" y="502920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62"/>
          <p:cNvGrpSpPr/>
          <p:nvPr/>
        </p:nvGrpSpPr>
        <p:grpSpPr>
          <a:xfrm>
            <a:off x="457200" y="4724280"/>
            <a:ext cx="457200" cy="761760"/>
            <a:chOff x="457200" y="4724280"/>
            <a:chExt cx="457200" cy="761760"/>
          </a:xfrm>
        </p:grpSpPr>
        <p:sp>
          <p:nvSpPr>
            <p:cNvPr id="135" name="Line 63"/>
            <p:cNvSpPr/>
            <p:nvPr/>
          </p:nvSpPr>
          <p:spPr>
            <a:xfrm>
              <a:off x="457200" y="54860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>
              <a:off x="457200" y="47242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65"/>
          <p:cNvSpPr/>
          <p:nvPr/>
        </p:nvSpPr>
        <p:spPr>
          <a:xfrm>
            <a:off x="4824360" y="4890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70"/>
          <p:cNvGrpSpPr/>
          <p:nvPr/>
        </p:nvGrpSpPr>
        <p:grpSpPr>
          <a:xfrm>
            <a:off x="2771640" y="614520"/>
            <a:ext cx="728640" cy="328320"/>
            <a:chOff x="2771640" y="614520"/>
            <a:chExt cx="728640" cy="328320"/>
          </a:xfrm>
        </p:grpSpPr>
        <p:sp>
          <p:nvSpPr>
            <p:cNvPr id="139" name="Line 46"/>
            <p:cNvSpPr/>
            <p:nvPr/>
          </p:nvSpPr>
          <p:spPr>
            <a:xfrm>
              <a:off x="2771640" y="928800"/>
              <a:ext cx="72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67"/>
            <p:cNvSpPr/>
            <p:nvPr/>
          </p:nvSpPr>
          <p:spPr>
            <a:xfrm flipH="1">
              <a:off x="2772360" y="614520"/>
              <a:ext cx="612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Line 71"/>
          <p:cNvSpPr/>
          <p:nvPr/>
        </p:nvSpPr>
        <p:spPr>
          <a:xfrm flipH="1">
            <a:off x="4787640" y="2647800"/>
            <a:ext cx="4680" cy="60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4"/>
          <p:cNvSpPr/>
          <p:nvPr/>
        </p:nvSpPr>
        <p:spPr>
          <a:xfrm>
            <a:off x="4805280" y="4157640"/>
            <a:ext cx="1440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Group 78"/>
          <p:cNvGrpSpPr/>
          <p:nvPr/>
        </p:nvGrpSpPr>
        <p:grpSpPr>
          <a:xfrm>
            <a:off x="2048040" y="2676240"/>
            <a:ext cx="2757240" cy="552600"/>
            <a:chOff x="2048040" y="2676240"/>
            <a:chExt cx="2757240" cy="552600"/>
          </a:xfrm>
        </p:grpSpPr>
        <p:sp>
          <p:nvSpPr>
            <p:cNvPr id="144" name="Line 72"/>
            <p:cNvSpPr/>
            <p:nvPr/>
          </p:nvSpPr>
          <p:spPr>
            <a:xfrm>
              <a:off x="2057040" y="293904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75"/>
            <p:cNvSpPr/>
            <p:nvPr/>
          </p:nvSpPr>
          <p:spPr>
            <a:xfrm>
              <a:off x="2048040" y="2920680"/>
              <a:ext cx="275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76"/>
            <p:cNvSpPr/>
            <p:nvPr/>
          </p:nvSpPr>
          <p:spPr>
            <a:xfrm flipV="1">
              <a:off x="4790880" y="267624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Group 79"/>
          <p:cNvGrpSpPr/>
          <p:nvPr/>
        </p:nvGrpSpPr>
        <p:grpSpPr>
          <a:xfrm>
            <a:off x="4781880" y="2692080"/>
            <a:ext cx="3028680" cy="552600"/>
            <a:chOff x="4781880" y="2692080"/>
            <a:chExt cx="3028680" cy="552600"/>
          </a:xfrm>
        </p:grpSpPr>
        <p:sp>
          <p:nvSpPr>
            <p:cNvPr id="148" name="Line 80"/>
            <p:cNvSpPr/>
            <p:nvPr/>
          </p:nvSpPr>
          <p:spPr>
            <a:xfrm>
              <a:off x="7800480" y="295488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1"/>
            <p:cNvSpPr/>
            <p:nvPr/>
          </p:nvSpPr>
          <p:spPr>
            <a:xfrm flipH="1">
              <a:off x="4781880" y="2936520"/>
              <a:ext cx="30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82"/>
            <p:cNvSpPr/>
            <p:nvPr/>
          </p:nvSpPr>
          <p:spPr>
            <a:xfrm flipV="1">
              <a:off x="4797720" y="269208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Text Box 84"/>
          <p:cNvSpPr/>
          <p:nvPr/>
        </p:nvSpPr>
        <p:spPr>
          <a:xfrm>
            <a:off x="152280" y="909720"/>
            <a:ext cx="2286000" cy="100476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 chalet implanté dans un coin très isol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5"/>
          <p:cNvSpPr/>
          <p:nvPr/>
        </p:nvSpPr>
        <p:spPr>
          <a:xfrm>
            <a:off x="2573280" y="569880"/>
            <a:ext cx="6205680" cy="158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personne habitant dans un coin très isolé décide d’implanter un panneau photovoltaïque sur le toit de sa maiso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6"/>
          <p:cNvSpPr/>
          <p:nvPr/>
        </p:nvSpPr>
        <p:spPr>
          <a:xfrm>
            <a:off x="2521080" y="2052720"/>
            <a:ext cx="5251320" cy="898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Quelles sont les meilleures  conditions d'utilisations d'un panneau photovoltaïqu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34:50Z</dcterms:created>
  <dc:creator>Régis Rigaud</dc:creator>
  <dc:description/>
  <dc:language>en-US</dc:language>
  <cp:lastModifiedBy>Jérôme</cp:lastModifiedBy>
  <dcterms:modified xsi:type="dcterms:W3CDTF">2009-02-17T17:22:42Z</dcterms:modified>
  <cp:revision>26</cp:revision>
  <dc:subject/>
  <dc:title>Présentation PowerPoint</dc:title>
</cp:coreProperties>
</file>