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40A-17E1-4F49-BE1E-3145E50B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BB9-9B7A-4F2B-A3A9-5569ECA4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764-7F8E-49FC-B6AC-37660759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7A9-72CF-41E8-83FE-563B54F9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114F-850F-42AF-B4D1-264BB2C6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4C16-B14E-4A15-8517-30FEC03D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4093-1192-4D65-ABD8-BF20B89B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BD8B-CFCF-49CE-B389-78C59154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5A7A-8B37-4D8D-9241-2FC3C36A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5C73-7144-4DDA-9925-B6C57A36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DDCF-6CDD-4812-B85F-8019C70D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47D-CEA7-41B7-A32A-3A50E875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6807-B3AE-4072-ABE6-4F260686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7862-C195-4F16-A36B-3291E33F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7325-B983-4F63-AB73-24027C86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1CA7-791B-4824-BFC4-9BCC77D9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5460-6FC8-4FF5-A0C3-0C6DE486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76C-7C17-4BF8-B303-E27D879B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D37-84FB-451F-9429-3B104F34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352-D38D-47C0-BBE8-E0BE2FEC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519-C813-4681-9CE0-CD45E403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88C-453B-475A-AAA6-2A73A030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3F4-2CCD-4CF9-8042-7B276A82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167-4432-4F8F-8B0E-0B528D72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1CF1-B14E-44D2-9E19-DB43B2CA4A74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02BD-036F-46F9-BA33-10C89909D144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253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66"/>
                </a:solidFill>
                <a:latin typeface="Arial"/>
              </a:rPr>
              <a:t>La démarche d’investig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511440" y="76320"/>
            <a:ext cx="27432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tuation problè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511440" y="685800"/>
            <a:ext cx="274320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ser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048120" y="1600200"/>
            <a:ext cx="3670200" cy="360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ème technique à résoud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ur chaque activité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 bil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est réalisé pour répondre au problème posé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172200" y="533412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démarc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’investig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627960" y="695160"/>
            <a:ext cx="2361960" cy="3812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stions élève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048120" y="2286000"/>
            <a:ext cx="3670200" cy="360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é(s) élè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228600" y="1600200"/>
            <a:ext cx="198108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ées élève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767040" y="3247920"/>
            <a:ext cx="2233800" cy="9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maîtrise des techni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6705720" y="3247920"/>
            <a:ext cx="2233440" cy="9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fais appel à la démarche technolog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Group 16"/>
          <p:cNvGrpSpPr/>
          <p:nvPr/>
        </p:nvGrpSpPr>
        <p:grpSpPr>
          <a:xfrm>
            <a:off x="1143000" y="2057040"/>
            <a:ext cx="1904760" cy="380880"/>
            <a:chOff x="1143000" y="2057040"/>
            <a:chExt cx="1904760" cy="380880"/>
          </a:xfrm>
        </p:grpSpPr>
        <p:sp>
          <p:nvSpPr>
            <p:cNvPr id="100" name="Line 17"/>
            <p:cNvSpPr/>
            <p:nvPr/>
          </p:nvSpPr>
          <p:spPr>
            <a:xfrm>
              <a:off x="1143000" y="2437920"/>
              <a:ext cx="19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18"/>
            <p:cNvSpPr/>
            <p:nvPr/>
          </p:nvSpPr>
          <p:spPr>
            <a:xfrm flipV="1">
              <a:off x="1143000" y="2057040"/>
              <a:ext cx="0" cy="38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Line 19"/>
          <p:cNvSpPr/>
          <p:nvPr/>
        </p:nvSpPr>
        <p:spPr>
          <a:xfrm flipH="1">
            <a:off x="2209320" y="175248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3886200" y="4495680"/>
            <a:ext cx="2017800" cy="381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raison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914400" y="4495680"/>
            <a:ext cx="2362320" cy="144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’observ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à partir du réel, de photos, d’un film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solutions existant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s documents 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exte, graphique, tableau, 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3875040" y="5181480"/>
            <a:ext cx="2017800" cy="990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commun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ra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ar écr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0"/>
          <p:cNvSpPr/>
          <p:nvPr/>
        </p:nvSpPr>
        <p:spPr>
          <a:xfrm>
            <a:off x="4824360" y="618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914400" y="3247920"/>
            <a:ext cx="2233440" cy="9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prends des inform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Group 33"/>
          <p:cNvGrpSpPr/>
          <p:nvPr/>
        </p:nvGrpSpPr>
        <p:grpSpPr>
          <a:xfrm>
            <a:off x="6705360" y="1143000"/>
            <a:ext cx="1143360" cy="609120"/>
            <a:chOff x="6705360" y="1143000"/>
            <a:chExt cx="1143360" cy="609120"/>
          </a:xfrm>
        </p:grpSpPr>
        <p:sp>
          <p:nvSpPr>
            <p:cNvPr id="109" name="Line 34"/>
            <p:cNvSpPr/>
            <p:nvPr/>
          </p:nvSpPr>
          <p:spPr>
            <a:xfrm flipH="1">
              <a:off x="6705360" y="17521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35"/>
            <p:cNvSpPr/>
            <p:nvPr/>
          </p:nvSpPr>
          <p:spPr>
            <a:xfrm flipV="1">
              <a:off x="7848720" y="1143000"/>
              <a:ext cx="0" cy="60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Group 36"/>
          <p:cNvGrpSpPr/>
          <p:nvPr/>
        </p:nvGrpSpPr>
        <p:grpSpPr>
          <a:xfrm>
            <a:off x="5892840" y="4114440"/>
            <a:ext cx="1879200" cy="533520"/>
            <a:chOff x="5892840" y="4114440"/>
            <a:chExt cx="1879200" cy="533520"/>
          </a:xfrm>
        </p:grpSpPr>
        <p:sp>
          <p:nvSpPr>
            <p:cNvPr id="112" name="Line 37"/>
            <p:cNvSpPr/>
            <p:nvPr/>
          </p:nvSpPr>
          <p:spPr>
            <a:xfrm flipH="1">
              <a:off x="5892840" y="4647960"/>
              <a:ext cx="187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38"/>
            <p:cNvSpPr/>
            <p:nvPr/>
          </p:nvSpPr>
          <p:spPr>
            <a:xfrm flipV="1">
              <a:off x="7772040" y="411444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Text Box 42"/>
          <p:cNvSpPr/>
          <p:nvPr/>
        </p:nvSpPr>
        <p:spPr>
          <a:xfrm>
            <a:off x="0" y="431964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J’utili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66"/>
          <p:cNvGrpSpPr/>
          <p:nvPr/>
        </p:nvGrpSpPr>
        <p:grpSpPr>
          <a:xfrm>
            <a:off x="456840" y="3581280"/>
            <a:ext cx="433080" cy="728280"/>
            <a:chOff x="456840" y="3581280"/>
            <a:chExt cx="433080" cy="728280"/>
          </a:xfrm>
        </p:grpSpPr>
        <p:sp>
          <p:nvSpPr>
            <p:cNvPr id="116" name="Line 40"/>
            <p:cNvSpPr/>
            <p:nvPr/>
          </p:nvSpPr>
          <p:spPr>
            <a:xfrm flipH="1">
              <a:off x="456840" y="3581280"/>
              <a:ext cx="43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Line 43"/>
            <p:cNvSpPr/>
            <p:nvPr/>
          </p:nvSpPr>
          <p:spPr>
            <a:xfrm>
              <a:off x="457200" y="3581280"/>
              <a:ext cx="0" cy="72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Text Box 45"/>
          <p:cNvSpPr/>
          <p:nvPr/>
        </p:nvSpPr>
        <p:spPr>
          <a:xfrm>
            <a:off x="152280" y="457200"/>
            <a:ext cx="2286000" cy="3808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t techn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Group 69"/>
          <p:cNvGrpSpPr/>
          <p:nvPr/>
        </p:nvGrpSpPr>
        <p:grpSpPr>
          <a:xfrm>
            <a:off x="2438280" y="304920"/>
            <a:ext cx="1047600" cy="328320"/>
            <a:chOff x="2438280" y="304920"/>
            <a:chExt cx="1047600" cy="328320"/>
          </a:xfrm>
        </p:grpSpPr>
        <p:sp>
          <p:nvSpPr>
            <p:cNvPr id="120" name="Line 20"/>
            <p:cNvSpPr/>
            <p:nvPr/>
          </p:nvSpPr>
          <p:spPr>
            <a:xfrm>
              <a:off x="2787840" y="304920"/>
              <a:ext cx="69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47"/>
            <p:cNvSpPr/>
            <p:nvPr/>
          </p:nvSpPr>
          <p:spPr>
            <a:xfrm flipH="1">
              <a:off x="2780280" y="304920"/>
              <a:ext cx="684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48"/>
            <p:cNvSpPr/>
            <p:nvPr/>
          </p:nvSpPr>
          <p:spPr>
            <a:xfrm>
              <a:off x="2438280" y="609480"/>
              <a:ext cx="34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Line 49"/>
          <p:cNvSpPr/>
          <p:nvPr/>
        </p:nvSpPr>
        <p:spPr>
          <a:xfrm>
            <a:off x="4800600" y="457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1"/>
          <p:cNvSpPr/>
          <p:nvPr/>
        </p:nvSpPr>
        <p:spPr>
          <a:xfrm>
            <a:off x="6248520" y="914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52"/>
          <p:cNvSpPr/>
          <p:nvPr/>
        </p:nvSpPr>
        <p:spPr>
          <a:xfrm>
            <a:off x="4800600" y="1066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53"/>
          <p:cNvSpPr/>
          <p:nvPr/>
        </p:nvSpPr>
        <p:spPr>
          <a:xfrm>
            <a:off x="4800600" y="1981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61"/>
          <p:cNvGrpSpPr/>
          <p:nvPr/>
        </p:nvGrpSpPr>
        <p:grpSpPr>
          <a:xfrm>
            <a:off x="3276720" y="4648320"/>
            <a:ext cx="609120" cy="380880"/>
            <a:chOff x="3276720" y="4648320"/>
            <a:chExt cx="609120" cy="380880"/>
          </a:xfrm>
        </p:grpSpPr>
        <p:sp>
          <p:nvSpPr>
            <p:cNvPr id="128" name="Line 55"/>
            <p:cNvSpPr/>
            <p:nvPr/>
          </p:nvSpPr>
          <p:spPr>
            <a:xfrm>
              <a:off x="3479760" y="4648320"/>
              <a:ext cx="406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56"/>
            <p:cNvSpPr/>
            <p:nvPr/>
          </p:nvSpPr>
          <p:spPr>
            <a:xfrm>
              <a:off x="3479760" y="464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57"/>
            <p:cNvSpPr/>
            <p:nvPr/>
          </p:nvSpPr>
          <p:spPr>
            <a:xfrm>
              <a:off x="3276720" y="5029200"/>
              <a:ext cx="20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Group 60"/>
          <p:cNvGrpSpPr/>
          <p:nvPr/>
        </p:nvGrpSpPr>
        <p:grpSpPr>
          <a:xfrm>
            <a:off x="3479760" y="5029200"/>
            <a:ext cx="406440" cy="761760"/>
            <a:chOff x="3479760" y="5029200"/>
            <a:chExt cx="406440" cy="761760"/>
          </a:xfrm>
        </p:grpSpPr>
        <p:sp>
          <p:nvSpPr>
            <p:cNvPr id="132" name="Line 58"/>
            <p:cNvSpPr/>
            <p:nvPr/>
          </p:nvSpPr>
          <p:spPr>
            <a:xfrm>
              <a:off x="3479760" y="5790960"/>
              <a:ext cx="40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59"/>
            <p:cNvSpPr/>
            <p:nvPr/>
          </p:nvSpPr>
          <p:spPr>
            <a:xfrm>
              <a:off x="3479760" y="502920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Group 62"/>
          <p:cNvGrpSpPr/>
          <p:nvPr/>
        </p:nvGrpSpPr>
        <p:grpSpPr>
          <a:xfrm>
            <a:off x="457200" y="4724280"/>
            <a:ext cx="457200" cy="761760"/>
            <a:chOff x="457200" y="4724280"/>
            <a:chExt cx="457200" cy="761760"/>
          </a:xfrm>
        </p:grpSpPr>
        <p:sp>
          <p:nvSpPr>
            <p:cNvPr id="135" name="Line 63"/>
            <p:cNvSpPr/>
            <p:nvPr/>
          </p:nvSpPr>
          <p:spPr>
            <a:xfrm>
              <a:off x="457200" y="548604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64"/>
            <p:cNvSpPr/>
            <p:nvPr/>
          </p:nvSpPr>
          <p:spPr>
            <a:xfrm>
              <a:off x="457200" y="472428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65"/>
          <p:cNvSpPr/>
          <p:nvPr/>
        </p:nvSpPr>
        <p:spPr>
          <a:xfrm>
            <a:off x="4824360" y="48909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70"/>
          <p:cNvGrpSpPr/>
          <p:nvPr/>
        </p:nvGrpSpPr>
        <p:grpSpPr>
          <a:xfrm>
            <a:off x="2771640" y="614520"/>
            <a:ext cx="728640" cy="328320"/>
            <a:chOff x="2771640" y="614520"/>
            <a:chExt cx="728640" cy="328320"/>
          </a:xfrm>
        </p:grpSpPr>
        <p:sp>
          <p:nvSpPr>
            <p:cNvPr id="139" name="Line 46"/>
            <p:cNvSpPr/>
            <p:nvPr/>
          </p:nvSpPr>
          <p:spPr>
            <a:xfrm>
              <a:off x="2771640" y="928800"/>
              <a:ext cx="72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67"/>
            <p:cNvSpPr/>
            <p:nvPr/>
          </p:nvSpPr>
          <p:spPr>
            <a:xfrm flipH="1">
              <a:off x="2772360" y="614520"/>
              <a:ext cx="612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Line 71"/>
          <p:cNvSpPr/>
          <p:nvPr/>
        </p:nvSpPr>
        <p:spPr>
          <a:xfrm flipH="1">
            <a:off x="4787640" y="2647800"/>
            <a:ext cx="4680" cy="605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74"/>
          <p:cNvSpPr/>
          <p:nvPr/>
        </p:nvSpPr>
        <p:spPr>
          <a:xfrm>
            <a:off x="4805280" y="4157640"/>
            <a:ext cx="14400" cy="3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Group 78"/>
          <p:cNvGrpSpPr/>
          <p:nvPr/>
        </p:nvGrpSpPr>
        <p:grpSpPr>
          <a:xfrm>
            <a:off x="2048040" y="2676240"/>
            <a:ext cx="2757240" cy="552600"/>
            <a:chOff x="2048040" y="2676240"/>
            <a:chExt cx="2757240" cy="552600"/>
          </a:xfrm>
        </p:grpSpPr>
        <p:sp>
          <p:nvSpPr>
            <p:cNvPr id="144" name="Line 72"/>
            <p:cNvSpPr/>
            <p:nvPr/>
          </p:nvSpPr>
          <p:spPr>
            <a:xfrm>
              <a:off x="2057040" y="2939040"/>
              <a:ext cx="0" cy="28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75"/>
            <p:cNvSpPr/>
            <p:nvPr/>
          </p:nvSpPr>
          <p:spPr>
            <a:xfrm>
              <a:off x="2048040" y="2920680"/>
              <a:ext cx="275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76"/>
            <p:cNvSpPr/>
            <p:nvPr/>
          </p:nvSpPr>
          <p:spPr>
            <a:xfrm flipV="1">
              <a:off x="4790880" y="2676240"/>
              <a:ext cx="0" cy="2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Group 79"/>
          <p:cNvGrpSpPr/>
          <p:nvPr/>
        </p:nvGrpSpPr>
        <p:grpSpPr>
          <a:xfrm>
            <a:off x="4781880" y="2692080"/>
            <a:ext cx="3028680" cy="552600"/>
            <a:chOff x="4781880" y="2692080"/>
            <a:chExt cx="3028680" cy="552600"/>
          </a:xfrm>
        </p:grpSpPr>
        <p:sp>
          <p:nvSpPr>
            <p:cNvPr id="148" name="Line 80"/>
            <p:cNvSpPr/>
            <p:nvPr/>
          </p:nvSpPr>
          <p:spPr>
            <a:xfrm>
              <a:off x="7800480" y="2954880"/>
              <a:ext cx="0" cy="28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81"/>
            <p:cNvSpPr/>
            <p:nvPr/>
          </p:nvSpPr>
          <p:spPr>
            <a:xfrm flipH="1">
              <a:off x="4781880" y="2936520"/>
              <a:ext cx="30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82"/>
            <p:cNvSpPr/>
            <p:nvPr/>
          </p:nvSpPr>
          <p:spPr>
            <a:xfrm flipV="1">
              <a:off x="4797720" y="2692080"/>
              <a:ext cx="0" cy="2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Text Box 84"/>
          <p:cNvSpPr/>
          <p:nvPr/>
        </p:nvSpPr>
        <p:spPr>
          <a:xfrm>
            <a:off x="152280" y="909720"/>
            <a:ext cx="2286000" cy="100476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 chargeur d’accumulate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5"/>
          <p:cNvSpPr/>
          <p:nvPr/>
        </p:nvSpPr>
        <p:spPr>
          <a:xfrm>
            <a:off x="2473200" y="669960"/>
            <a:ext cx="6205680" cy="1582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personne habitant le chalet isolé utilise un chargeur d’accumulateurs alimenté par les cellules photovoltaïques. Un jour, elle a retrouvé ses accus complètement détrui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6"/>
          <p:cNvSpPr/>
          <p:nvPr/>
        </p:nvSpPr>
        <p:spPr>
          <a:xfrm>
            <a:off x="2521080" y="2090880"/>
            <a:ext cx="5251320" cy="561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D’où peut provenir ce problème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87"/>
          <p:cNvSpPr/>
          <p:nvPr/>
        </p:nvSpPr>
        <p:spPr>
          <a:xfrm>
            <a:off x="452520" y="6002280"/>
            <a:ext cx="3386160" cy="511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umentation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ur les accumulate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0" y="2035080"/>
            <a:ext cx="2362320" cy="1571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op d’éner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nsion trop élev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nsité trop élev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 défaill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246720" y="1120680"/>
            <a:ext cx="2897280" cy="2048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Est-ce que les accus ont brulé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st-ce que les accus ont explosé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Est-ce qu’il n’y a que les accus qui ont été détériorés ?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9:34:50Z</dcterms:created>
  <dc:creator>Régis Rigaud</dc:creator>
  <dc:description/>
  <dc:language>en-US</dc:language>
  <cp:lastModifiedBy>Jérôme</cp:lastModifiedBy>
  <dcterms:modified xsi:type="dcterms:W3CDTF">2009-02-17T17:44:46Z</dcterms:modified>
  <cp:revision>29</cp:revision>
  <dc:subject/>
  <dc:title>Présentation PowerPoint</dc:title>
</cp:coreProperties>
</file>