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3FD-CDA4-4A92-A8C8-34951A43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F97-944E-493A-AAB8-C4933522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7CE-85A5-4A72-A5E8-276F0A3D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B63-6D5A-49F9-ADC2-B5261720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892B-2BA6-4190-9310-4C825446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FBD3-9B6E-4448-9F02-7FDFE57A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9A76-4332-4E5F-80DB-B24BE659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7FBA-8F8D-444F-8531-46BEA410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BC66-363B-4520-9986-FA196265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ACE2-804E-4534-8501-26F9D8A7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4A28-2C5C-4DE1-BFE4-98C8C49A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D26-DA4F-4851-B1A6-1968DEAE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7A3E-3283-411D-868F-887B00C0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3746-97F1-48FB-8648-4C198094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BDBE-8E26-4487-AD68-94076C9D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AE5E-6BF0-4C6F-B97A-91AAE472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DD71-6E2A-40DC-83CC-4223F37A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EB2-DDED-4F63-98B7-9FFAE6C2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171-3B3E-4790-9E5B-7BDA2EBC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887-8FAB-4C76-97F6-05AD6977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178-C1CD-4E44-80B9-EBDD34EC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414-15DA-4834-A53A-BE7626F3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A17-B039-49A0-B9D1-A2651141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25A-EE77-4630-9E31-993C6DC9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Rectangle 17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3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4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5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6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7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8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39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0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1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2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3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4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5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6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7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8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49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0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1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2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3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4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5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6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7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8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59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0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1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2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3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4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5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6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7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8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69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0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1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2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3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4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5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6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7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8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79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0"/>
              <p:cNvSpPr/>
              <p:nvPr/>
            </p:nvSpPr>
            <p:spPr>
              <a:xfrm>
                <a:off x="771840" y="407016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1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2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3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4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5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6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7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8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89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0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1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2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3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4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5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6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7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8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99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0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1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2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3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4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5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6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7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8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09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0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1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2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3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4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5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6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7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8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19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0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1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2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3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4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5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6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7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8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29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0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1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2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3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4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5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6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7"/>
              <p:cNvSpPr/>
              <p:nvPr/>
            </p:nvSpPr>
            <p:spPr>
              <a:xfrm>
                <a:off x="1347480" y="497736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8"/>
              <p:cNvSpPr/>
              <p:nvPr/>
            </p:nvSpPr>
            <p:spPr>
              <a:xfrm>
                <a:off x="33120" y="4321800"/>
                <a:ext cx="14220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39"/>
              <p:cNvSpPr/>
              <p:nvPr/>
            </p:nvSpPr>
            <p:spPr>
              <a:xfrm>
                <a:off x="156600" y="4209480"/>
                <a:ext cx="159480" cy="140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0"/>
              <p:cNvSpPr/>
              <p:nvPr/>
            </p:nvSpPr>
            <p:spPr>
              <a:xfrm>
                <a:off x="1073880" y="5556600"/>
                <a:ext cx="13104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1"/>
              <p:cNvSpPr/>
              <p:nvPr/>
            </p:nvSpPr>
            <p:spPr>
              <a:xfrm>
                <a:off x="1490040" y="441684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2"/>
              <p:cNvSpPr/>
              <p:nvPr/>
            </p:nvSpPr>
            <p:spPr>
              <a:xfrm>
                <a:off x="1423440" y="4312440"/>
                <a:ext cx="142200" cy="132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3"/>
              <p:cNvSpPr/>
              <p:nvPr/>
            </p:nvSpPr>
            <p:spPr>
              <a:xfrm>
                <a:off x="14040" y="608688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4"/>
              <p:cNvSpPr/>
              <p:nvPr/>
            </p:nvSpPr>
            <p:spPr>
              <a:xfrm>
                <a:off x="14040" y="405756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5"/>
              <p:cNvSpPr/>
              <p:nvPr/>
            </p:nvSpPr>
            <p:spPr>
              <a:xfrm>
                <a:off x="14040" y="60962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6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7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8"/>
              <p:cNvSpPr/>
              <p:nvPr/>
            </p:nvSpPr>
            <p:spPr>
              <a:xfrm>
                <a:off x="222840" y="566892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49"/>
              <p:cNvSpPr/>
              <p:nvPr/>
            </p:nvSpPr>
            <p:spPr>
              <a:xfrm rot="18720000">
                <a:off x="981000" y="563292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0"/>
              <p:cNvSpPr/>
              <p:nvPr/>
            </p:nvSpPr>
            <p:spPr>
              <a:xfrm>
                <a:off x="374760" y="3975480"/>
                <a:ext cx="550440" cy="201312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1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50C9F1-1AB5-4A11-9829-51E9EB70DF1E}" type="slidenum">
              <a:rPr b="0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Rectangle 17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8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9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20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21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22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23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24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25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26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7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8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29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30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31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32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33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34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35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36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37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38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39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40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41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42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43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44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45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46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47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48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49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50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51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52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53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54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55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56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57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58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59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60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61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62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63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64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65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66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67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68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69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70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71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72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3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4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7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78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79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0"/>
              <p:cNvSpPr/>
              <p:nvPr/>
            </p:nvSpPr>
            <p:spPr>
              <a:xfrm>
                <a:off x="771840" y="407016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81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82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83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84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85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86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87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88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89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90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91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92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93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94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95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6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97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98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99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00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01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02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03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04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05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06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107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08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09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110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11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12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13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114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115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116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17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18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19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0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21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22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23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24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25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26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27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28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29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0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31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32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33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4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35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36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7"/>
              <p:cNvSpPr/>
              <p:nvPr/>
            </p:nvSpPr>
            <p:spPr>
              <a:xfrm>
                <a:off x="1347480" y="497736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8"/>
              <p:cNvSpPr/>
              <p:nvPr/>
            </p:nvSpPr>
            <p:spPr>
              <a:xfrm>
                <a:off x="33120" y="4321800"/>
                <a:ext cx="14220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39"/>
              <p:cNvSpPr/>
              <p:nvPr/>
            </p:nvSpPr>
            <p:spPr>
              <a:xfrm>
                <a:off x="156600" y="4209480"/>
                <a:ext cx="159480" cy="140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0"/>
              <p:cNvSpPr/>
              <p:nvPr/>
            </p:nvSpPr>
            <p:spPr>
              <a:xfrm>
                <a:off x="1073880" y="5556600"/>
                <a:ext cx="13104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41"/>
              <p:cNvSpPr/>
              <p:nvPr/>
            </p:nvSpPr>
            <p:spPr>
              <a:xfrm>
                <a:off x="1490040" y="441684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2"/>
              <p:cNvSpPr/>
              <p:nvPr/>
            </p:nvSpPr>
            <p:spPr>
              <a:xfrm>
                <a:off x="1423440" y="4312440"/>
                <a:ext cx="142200" cy="132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3"/>
              <p:cNvSpPr/>
              <p:nvPr/>
            </p:nvSpPr>
            <p:spPr>
              <a:xfrm>
                <a:off x="14040" y="608688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44"/>
              <p:cNvSpPr/>
              <p:nvPr/>
            </p:nvSpPr>
            <p:spPr>
              <a:xfrm>
                <a:off x="14040" y="405756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45"/>
              <p:cNvSpPr/>
              <p:nvPr/>
            </p:nvSpPr>
            <p:spPr>
              <a:xfrm>
                <a:off x="14040" y="60962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46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47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48"/>
              <p:cNvSpPr/>
              <p:nvPr/>
            </p:nvSpPr>
            <p:spPr>
              <a:xfrm>
                <a:off x="222840" y="566892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49"/>
              <p:cNvSpPr/>
              <p:nvPr/>
            </p:nvSpPr>
            <p:spPr>
              <a:xfrm rot="18720000">
                <a:off x="981000" y="563292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50"/>
              <p:cNvSpPr/>
              <p:nvPr/>
            </p:nvSpPr>
            <p:spPr>
              <a:xfrm>
                <a:off x="374760" y="3975480"/>
                <a:ext cx="550440" cy="201312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51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B78A27-F90F-48E5-B823-DFB4F5252279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citivit&#233;%201%20bilan.odg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jeunes.edf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1"/>
          <p:cNvSpPr/>
          <p:nvPr/>
        </p:nvSpPr>
        <p:spPr>
          <a:xfrm>
            <a:off x="324000" y="333360"/>
            <a:ext cx="4174920" cy="626436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360"/>
              <a:gd name="textAreaBottom" fmla="*/ 6060600 h 6264360"/>
            </a:gdLst>
            <a:ahLst/>
            <a:rect l="textAreaLeft" t="textAreaTop" r="textAreaRight" b="textAreaBottom"/>
            <a:pathLst>
              <a:path w="21600" h="32409">
                <a:moveTo>
                  <a:pt x="3600" y="0"/>
                </a:moveTo>
                <a:arcTo wR="3600" hR="3600" stAng="16200000" swAng="-5400000"/>
                <a:lnTo>
                  <a:pt x="0" y="28809"/>
                </a:lnTo>
                <a:arcTo wR="3600" hR="3600" stAng="10800000" swAng="-5400000"/>
                <a:lnTo>
                  <a:pt x="18000" y="324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2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385" name="Text Box 3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AutoShape 4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AutoShape 5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Text Box 6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4800600" y="3048120"/>
            <a:ext cx="4038480" cy="167616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2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393" name="Text Box 4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utoShape 5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AutoShape 6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Text Box 7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4724280" y="152280"/>
            <a:ext cx="4038840" cy="24386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4952880" y="320040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apacités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4952880" y="3657600"/>
            <a:ext cx="36576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echercher et décrire plusieurs solutions techniques pour répondre à une fonction donn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4952880" y="30492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onnaissanc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4952880" y="76212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olutions techni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6400800" y="24382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a3c145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6400800" y="54100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a3c145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6"/>
          <p:cNvSpPr/>
          <p:nvPr/>
        </p:nvSpPr>
        <p:spPr>
          <a:xfrm>
            <a:off x="4800600" y="600408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a3c145"/>
                </a:solidFill>
                <a:latin typeface="Tahoma"/>
              </a:rPr>
              <a:t>1 Brique élémenta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a3c145"/>
                </a:solidFill>
                <a:latin typeface="Tahoma"/>
              </a:rPr>
              <a:t>du program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7"/>
          <p:cNvSpPr/>
          <p:nvPr/>
        </p:nvSpPr>
        <p:spPr>
          <a:xfrm>
            <a:off x="4952880" y="4800600"/>
            <a:ext cx="36576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’item connaissance\capacité est de Niveau 2 : « je sais en parler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1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2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09" name="Text Box 3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utoShape 4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Text Box 6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9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4716360" y="476280"/>
            <a:ext cx="4330800" cy="856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r>
              <a:rPr b="0" lang="fr-FR" sz="16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ICHE BILAN ACTIVITE 1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" name="Object 16"/>
          <p:cNvGraphicFramePr/>
          <p:nvPr/>
        </p:nvGraphicFramePr>
        <p:xfrm>
          <a:off x="5025960" y="1341360"/>
          <a:ext cx="3795840" cy="536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5960" y="1341360"/>
                    <a:ext cx="379584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1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8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27" name="Text Box 9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AutoShape 10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AutoShape 11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Text Box 12"/>
          <p:cNvSpPr/>
          <p:nvPr/>
        </p:nvSpPr>
        <p:spPr>
          <a:xfrm>
            <a:off x="4932360" y="2165400"/>
            <a:ext cx="390672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Quelles sont les différentes sources d'énergie renouvelable 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1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8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39" name="Text Box 9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AutoShape 10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AutoShape 11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Text Box 12"/>
          <p:cNvSpPr/>
          <p:nvPr/>
        </p:nvSpPr>
        <p:spPr>
          <a:xfrm>
            <a:off x="912960" y="5056200"/>
            <a:ext cx="3003480" cy="1316160"/>
          </a:xfrm>
          <a:prstGeom prst="rect">
            <a:avLst/>
          </a:prstGeom>
          <a:solidFill>
            <a:srgbClr val="0d0d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5 - Des activités d’apprentissage et des supports adaptés qui mènent à la résolution du problème technologique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réflexion / action / évaluations formativ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13"/>
          <p:cNvSpPr/>
          <p:nvPr/>
        </p:nvSpPr>
        <p:spPr>
          <a:xfrm>
            <a:off x="2284560" y="470052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78"/>
          <p:cNvSpPr/>
          <p:nvPr/>
        </p:nvSpPr>
        <p:spPr>
          <a:xfrm>
            <a:off x="4788000" y="620640"/>
            <a:ext cx="38876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dentification des sources d’éner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cherche sur Internet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http://energies.edf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jeunes.edf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édaction d’un compte rendu par groupe avec un traitement de tex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une définition, une pho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isualisation des travaux au vidéo-projecte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ise en commun du travail – bil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01:25Z</dcterms:created>
  <dc:creator>Rigaud</dc:creator>
  <dc:description/>
  <dc:language>en-US</dc:language>
  <cp:lastModifiedBy>Jérôme</cp:lastModifiedBy>
  <dcterms:modified xsi:type="dcterms:W3CDTF">2009-02-18T10:07:29Z</dcterms:modified>
  <cp:revision>49</cp:revision>
  <dc:subject/>
  <dc:title>LA TECHNOLOGIE AU COLLEGE</dc:title>
</cp:coreProperties>
</file>