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016C-29D8-4B20-8FBC-EFC0F985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F4E3-0388-4BB6-B285-DEEA4469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BA3-0DEE-4577-BCD6-603FB908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C389-B387-4F1B-96A3-CAF35816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0296-A402-4C46-BE6E-B603D028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FAF6-0B9C-4692-9D2B-14EEE85F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8106-A55C-4D4D-B1AF-514988E3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DC37-3068-43DF-B39B-6C267934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EC3B-3412-409B-8BEE-F3C8FE35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7E20-9CF3-48CB-93BE-D72FA4A7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68CE-5653-4DB0-9416-9AEFD56A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E90-3F14-4B15-B4D2-92CEE4A9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2ED8-84DA-4416-A36D-0EF9EF28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3587-B83C-4C0B-B1C3-8CB8B28B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E8BC-D5BA-4330-86A8-7B85B75C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F150-5CCB-451C-A503-ACBD3257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073A-903B-40D9-A335-FF20FF03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0858-E4F0-4EA9-92E1-879E1039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C82-86E5-4A1A-A46B-DF17373B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940-49D4-40CA-A473-BB2D8BB9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7A26-CC0D-4F6F-9421-B47D7FA6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FC18-F791-42B9-8EBA-100E29DA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4D5B-6D37-4415-8EBA-7DE35D31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3DE-153A-4094-8637-C843CC72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" name="Group 2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2" name="Freeform 3"/>
              <p:cNvSpPr/>
              <p:nvPr/>
            </p:nvSpPr>
            <p:spPr>
              <a:xfrm>
                <a:off x="2220120" y="1771200"/>
                <a:ext cx="4467960" cy="33487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4"/>
              <p:cNvSpPr/>
              <p:nvPr/>
            </p:nvSpPr>
            <p:spPr>
              <a:xfrm>
                <a:off x="1066320" y="1771200"/>
                <a:ext cx="6294600" cy="37551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5"/>
              <p:cNvSpPr/>
              <p:nvPr/>
            </p:nvSpPr>
            <p:spPr>
              <a:xfrm>
                <a:off x="31680" y="1696680"/>
                <a:ext cx="9097920" cy="49309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383760" y="1817280"/>
                <a:ext cx="8748720" cy="43801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7681680" y="1561680"/>
                <a:ext cx="1253880" cy="18867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8210160" y="1422360"/>
                <a:ext cx="919080" cy="17726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5223240" y="1536480"/>
                <a:ext cx="3921840" cy="38023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3754800" y="1693440"/>
                <a:ext cx="2220480" cy="2140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6785280" y="3223440"/>
                <a:ext cx="1992960" cy="12855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4624920" y="5516640"/>
                <a:ext cx="4520160" cy="1250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8638920" y="1463400"/>
                <a:ext cx="506160" cy="13554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7862760" y="5662800"/>
                <a:ext cx="1024920" cy="62208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78840" y="3809160"/>
                <a:ext cx="4342320" cy="304704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6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16" name="Rectangle 17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Rectangle 18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Rectangle 19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Rectangle 20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Rectangle 21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Rectangle 22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Rectangle 23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Rectangle 24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Rectangle 25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Rectangle 26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Rectangle 27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Rectangle 28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Rectangle 29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Rectangle 30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Rectangle 31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Rectangle 32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Rectangle 33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Rectangle 34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Rectangle 35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Rectangle 36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Rectangle 37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Rectangle 38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Rectangle 39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Rectangle 40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Rectangle 41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Rectangle 42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Rectangle 43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Rectangle 44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Rectangle 45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Rectangle 46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Rectangle 47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Rectangle 48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Rectangle 49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Rectangle 50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Rectangle 51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52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Rectangle 53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Rectangle 54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55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Rectangle 56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57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58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59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60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61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62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63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64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65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Rectangle 66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67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Rectangle 68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Rectangle 69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Rectangle 70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Rectangle 71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72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Rectangle 73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Rectangle 74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Rectangle 75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Rectangle 76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Rectangle 77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78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Rectangle 79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80"/>
              <p:cNvSpPr/>
              <p:nvPr/>
            </p:nvSpPr>
            <p:spPr>
              <a:xfrm>
                <a:off x="771840" y="4070160"/>
                <a:ext cx="284760" cy="2390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Rectangle 81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82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83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84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Rectangle 85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Rectangle 86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87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Rectangle 88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Rectangle 89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Rectangle 90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Rectangle 91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Rectangle 92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Rectangle 93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Rectangle 94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Rectangle 95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Rectangle 96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Rectangle 97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Rectangle 98"/>
              <p:cNvSpPr/>
              <p:nvPr/>
            </p:nvSpPr>
            <p:spPr>
              <a:xfrm rot="1704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99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Rectangle 100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Rectangle 101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Rectangle 102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Rectangle 103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Rectangle 104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Rectangle 105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Rectangle 106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Rectangle 107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108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109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Rectangle 110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111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112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Rectangle 113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114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Rectangle 115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116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117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118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119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120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121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122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Rectangle 123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Rectangle 124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125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126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Rectangle 127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Rectangle 128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Rectangle 129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130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Rectangle 131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Rectangle 132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Rectangle 133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134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135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136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37"/>
              <p:cNvSpPr/>
              <p:nvPr/>
            </p:nvSpPr>
            <p:spPr>
              <a:xfrm>
                <a:off x="1347480" y="4977360"/>
                <a:ext cx="322560" cy="189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38"/>
              <p:cNvSpPr/>
              <p:nvPr/>
            </p:nvSpPr>
            <p:spPr>
              <a:xfrm>
                <a:off x="33120" y="4321800"/>
                <a:ext cx="14220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39"/>
              <p:cNvSpPr/>
              <p:nvPr/>
            </p:nvSpPr>
            <p:spPr>
              <a:xfrm>
                <a:off x="156600" y="4209480"/>
                <a:ext cx="159480" cy="140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140"/>
              <p:cNvSpPr/>
              <p:nvPr/>
            </p:nvSpPr>
            <p:spPr>
              <a:xfrm>
                <a:off x="1073880" y="5556600"/>
                <a:ext cx="13104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41"/>
              <p:cNvSpPr/>
              <p:nvPr/>
            </p:nvSpPr>
            <p:spPr>
              <a:xfrm>
                <a:off x="1490040" y="4416840"/>
                <a:ext cx="142200" cy="113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42"/>
              <p:cNvSpPr/>
              <p:nvPr/>
            </p:nvSpPr>
            <p:spPr>
              <a:xfrm>
                <a:off x="1423440" y="4312440"/>
                <a:ext cx="142200" cy="132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43"/>
              <p:cNvSpPr/>
              <p:nvPr/>
            </p:nvSpPr>
            <p:spPr>
              <a:xfrm>
                <a:off x="14040" y="6086880"/>
                <a:ext cx="9000" cy="1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44"/>
              <p:cNvSpPr/>
              <p:nvPr/>
            </p:nvSpPr>
            <p:spPr>
              <a:xfrm>
                <a:off x="14040" y="4057560"/>
                <a:ext cx="47160" cy="759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45"/>
              <p:cNvSpPr/>
              <p:nvPr/>
            </p:nvSpPr>
            <p:spPr>
              <a:xfrm>
                <a:off x="14040" y="6096240"/>
                <a:ext cx="56880" cy="1044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146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147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48"/>
              <p:cNvSpPr/>
              <p:nvPr/>
            </p:nvSpPr>
            <p:spPr>
              <a:xfrm>
                <a:off x="222840" y="5668920"/>
                <a:ext cx="227520" cy="243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49"/>
              <p:cNvSpPr/>
              <p:nvPr/>
            </p:nvSpPr>
            <p:spPr>
              <a:xfrm rot="18720000">
                <a:off x="981000" y="5632920"/>
                <a:ext cx="107640" cy="10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50"/>
              <p:cNvSpPr/>
              <p:nvPr/>
            </p:nvSpPr>
            <p:spPr>
              <a:xfrm>
                <a:off x="374760" y="3975480"/>
                <a:ext cx="550440" cy="2013120"/>
              </a:xfrm>
              <a:prstGeom prst="pie">
                <a:avLst/>
              </a:pr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Oval 151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7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2878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067A8C-583B-41D1-AB2F-B9116571DB50}" type="slidenum">
              <a:rPr b="0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1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93" name="Group 2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194" name="Freeform 3"/>
              <p:cNvSpPr/>
              <p:nvPr/>
            </p:nvSpPr>
            <p:spPr>
              <a:xfrm>
                <a:off x="2220120" y="1771200"/>
                <a:ext cx="4467960" cy="33487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4"/>
              <p:cNvSpPr/>
              <p:nvPr/>
            </p:nvSpPr>
            <p:spPr>
              <a:xfrm>
                <a:off x="1066320" y="1771200"/>
                <a:ext cx="6294600" cy="37551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5"/>
              <p:cNvSpPr/>
              <p:nvPr/>
            </p:nvSpPr>
            <p:spPr>
              <a:xfrm>
                <a:off x="31680" y="1696680"/>
                <a:ext cx="9097920" cy="49309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6"/>
              <p:cNvSpPr/>
              <p:nvPr/>
            </p:nvSpPr>
            <p:spPr>
              <a:xfrm>
                <a:off x="383760" y="1817280"/>
                <a:ext cx="8748720" cy="43801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7"/>
              <p:cNvSpPr/>
              <p:nvPr/>
            </p:nvSpPr>
            <p:spPr>
              <a:xfrm>
                <a:off x="7681680" y="1561680"/>
                <a:ext cx="1253880" cy="18867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"/>
              <p:cNvSpPr/>
              <p:nvPr/>
            </p:nvSpPr>
            <p:spPr>
              <a:xfrm>
                <a:off x="8210160" y="1422360"/>
                <a:ext cx="919080" cy="17726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9"/>
              <p:cNvSpPr/>
              <p:nvPr/>
            </p:nvSpPr>
            <p:spPr>
              <a:xfrm>
                <a:off x="5223240" y="1536480"/>
                <a:ext cx="3921840" cy="38023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10"/>
              <p:cNvSpPr/>
              <p:nvPr/>
            </p:nvSpPr>
            <p:spPr>
              <a:xfrm>
                <a:off x="3754800" y="1693440"/>
                <a:ext cx="2220480" cy="2140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11"/>
              <p:cNvSpPr/>
              <p:nvPr/>
            </p:nvSpPr>
            <p:spPr>
              <a:xfrm>
                <a:off x="6785280" y="3223440"/>
                <a:ext cx="1992960" cy="12855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2"/>
              <p:cNvSpPr/>
              <p:nvPr/>
            </p:nvSpPr>
            <p:spPr>
              <a:xfrm>
                <a:off x="4624920" y="5516640"/>
                <a:ext cx="4520160" cy="1250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3"/>
              <p:cNvSpPr/>
              <p:nvPr/>
            </p:nvSpPr>
            <p:spPr>
              <a:xfrm>
                <a:off x="8638920" y="1463400"/>
                <a:ext cx="506160" cy="13554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4"/>
              <p:cNvSpPr/>
              <p:nvPr/>
            </p:nvSpPr>
            <p:spPr>
              <a:xfrm>
                <a:off x="7862760" y="5662800"/>
                <a:ext cx="1024920" cy="62208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15"/>
              <p:cNvSpPr/>
              <p:nvPr/>
            </p:nvSpPr>
            <p:spPr>
              <a:xfrm>
                <a:off x="78840" y="3809160"/>
                <a:ext cx="4342320" cy="304704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6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208" name="Rectangle 17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8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19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Rectangle 20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Rectangle 21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22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23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24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25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26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27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28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29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30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31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32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33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34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35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36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37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38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Rectangle 39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40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41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42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43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Rectangle 44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Rectangle 45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46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47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48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49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50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51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52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53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54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55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56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57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58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59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60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61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Rectangle 62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63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64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65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66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67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68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69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70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71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72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73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74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75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76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77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78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79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0"/>
              <p:cNvSpPr/>
              <p:nvPr/>
            </p:nvSpPr>
            <p:spPr>
              <a:xfrm>
                <a:off x="771840" y="4070160"/>
                <a:ext cx="284760" cy="2390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81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82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83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84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85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Rectangle 86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Rectangle 87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88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89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90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91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Rectangle 92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Rectangle 93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94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95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6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97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98"/>
              <p:cNvSpPr/>
              <p:nvPr/>
            </p:nvSpPr>
            <p:spPr>
              <a:xfrm rot="1704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99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00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01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02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03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04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05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06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107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108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109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110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111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112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113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114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115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116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17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18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19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20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121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122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123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124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125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126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127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128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129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130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131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132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133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134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135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36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7"/>
              <p:cNvSpPr/>
              <p:nvPr/>
            </p:nvSpPr>
            <p:spPr>
              <a:xfrm>
                <a:off x="1347480" y="4977360"/>
                <a:ext cx="322560" cy="189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38"/>
              <p:cNvSpPr/>
              <p:nvPr/>
            </p:nvSpPr>
            <p:spPr>
              <a:xfrm>
                <a:off x="33120" y="4321800"/>
                <a:ext cx="14220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39"/>
              <p:cNvSpPr/>
              <p:nvPr/>
            </p:nvSpPr>
            <p:spPr>
              <a:xfrm>
                <a:off x="156600" y="4209480"/>
                <a:ext cx="159480" cy="140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40"/>
              <p:cNvSpPr/>
              <p:nvPr/>
            </p:nvSpPr>
            <p:spPr>
              <a:xfrm>
                <a:off x="1073880" y="5556600"/>
                <a:ext cx="13104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41"/>
              <p:cNvSpPr/>
              <p:nvPr/>
            </p:nvSpPr>
            <p:spPr>
              <a:xfrm>
                <a:off x="1490040" y="4416840"/>
                <a:ext cx="142200" cy="113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42"/>
              <p:cNvSpPr/>
              <p:nvPr/>
            </p:nvSpPr>
            <p:spPr>
              <a:xfrm>
                <a:off x="1423440" y="4312440"/>
                <a:ext cx="142200" cy="132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43"/>
              <p:cNvSpPr/>
              <p:nvPr/>
            </p:nvSpPr>
            <p:spPr>
              <a:xfrm>
                <a:off x="14040" y="6086880"/>
                <a:ext cx="9000" cy="1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44"/>
              <p:cNvSpPr/>
              <p:nvPr/>
            </p:nvSpPr>
            <p:spPr>
              <a:xfrm>
                <a:off x="14040" y="4057560"/>
                <a:ext cx="47160" cy="759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45"/>
              <p:cNvSpPr/>
              <p:nvPr/>
            </p:nvSpPr>
            <p:spPr>
              <a:xfrm>
                <a:off x="14040" y="6096240"/>
                <a:ext cx="56880" cy="1044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146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147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48"/>
              <p:cNvSpPr/>
              <p:nvPr/>
            </p:nvSpPr>
            <p:spPr>
              <a:xfrm>
                <a:off x="222840" y="5668920"/>
                <a:ext cx="227520" cy="243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149"/>
              <p:cNvSpPr/>
              <p:nvPr/>
            </p:nvSpPr>
            <p:spPr>
              <a:xfrm rot="18720000">
                <a:off x="981000" y="5632920"/>
                <a:ext cx="107640" cy="10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150"/>
              <p:cNvSpPr/>
              <p:nvPr/>
            </p:nvSpPr>
            <p:spPr>
              <a:xfrm>
                <a:off x="374760" y="3975480"/>
                <a:ext cx="550440" cy="2013120"/>
              </a:xfrm>
              <a:prstGeom prst="pie">
                <a:avLst/>
              </a:pr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51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22842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284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9AF0CC-B2DF-44FD-97AC-FC18A5713FDD}" type="slidenum">
              <a:rPr b="0" lang="fr-F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acitivit&#233;%201%20bilan.odg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1"/>
          <p:cNvSpPr/>
          <p:nvPr/>
        </p:nvSpPr>
        <p:spPr>
          <a:xfrm>
            <a:off x="324000" y="333360"/>
            <a:ext cx="4174920" cy="626436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360"/>
              <a:gd name="textAreaBottom" fmla="*/ 6060600 h 6264360"/>
            </a:gdLst>
            <a:ahLst/>
            <a:rect l="textAreaLeft" t="textAreaTop" r="textAreaRight" b="textAreaBottom"/>
            <a:pathLst>
              <a:path w="21600" h="32409">
                <a:moveTo>
                  <a:pt x="3600" y="0"/>
                </a:moveTo>
                <a:arcTo wR="3600" hR="3600" stAng="16200000" swAng="-5400000"/>
                <a:lnTo>
                  <a:pt x="0" y="28809"/>
                </a:lnTo>
                <a:arcTo wR="3600" hR="3600" stAng="10800000" swAng="-5400000"/>
                <a:lnTo>
                  <a:pt x="18000" y="324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2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385" name="Text Box 3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AutoShape 4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AutoShape 5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Text Box 6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4800600" y="3048120"/>
            <a:ext cx="4038480" cy="167616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2"/>
          <p:cNvSpPr/>
          <p:nvPr/>
        </p:nvSpPr>
        <p:spPr>
          <a:xfrm>
            <a:off x="324000" y="331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3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393" name="Text Box 4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AutoShape 5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AutoShape 6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Text Box 7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4724280" y="152280"/>
            <a:ext cx="4038840" cy="24386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4952880" y="3200400"/>
            <a:ext cx="36576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apacités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1"/>
          <p:cNvSpPr/>
          <p:nvPr/>
        </p:nvSpPr>
        <p:spPr>
          <a:xfrm>
            <a:off x="4857840" y="3643200"/>
            <a:ext cx="392904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Identifier dans la chaîne de l’énergie les composants qui participent à la gestion de l’énergie et du conf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4952880" y="304920"/>
            <a:ext cx="36576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onnaissance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3"/>
          <p:cNvSpPr/>
          <p:nvPr/>
        </p:nvSpPr>
        <p:spPr>
          <a:xfrm>
            <a:off x="4952880" y="762120"/>
            <a:ext cx="36576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Solutions techni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6400800" y="24382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a3c145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5"/>
          <p:cNvSpPr/>
          <p:nvPr/>
        </p:nvSpPr>
        <p:spPr>
          <a:xfrm>
            <a:off x="6400800" y="54100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a3c145"/>
                </a:solidFill>
                <a:latin typeface="Tahom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6"/>
          <p:cNvSpPr/>
          <p:nvPr/>
        </p:nvSpPr>
        <p:spPr>
          <a:xfrm>
            <a:off x="4800600" y="6004080"/>
            <a:ext cx="396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a3c145"/>
                </a:solidFill>
                <a:latin typeface="Tahoma"/>
              </a:rPr>
              <a:t>1 Brique élémentai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a3c145"/>
                </a:solidFill>
                <a:latin typeface="Tahoma"/>
              </a:rPr>
              <a:t>du program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7"/>
          <p:cNvSpPr/>
          <p:nvPr/>
        </p:nvSpPr>
        <p:spPr>
          <a:xfrm>
            <a:off x="4952880" y="4800600"/>
            <a:ext cx="36576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L’item connaissance\capacité est de Niveau 1 : « je sais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AutoShape 1"/>
          <p:cNvSpPr/>
          <p:nvPr/>
        </p:nvSpPr>
        <p:spPr>
          <a:xfrm>
            <a:off x="324000" y="331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Group 2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409" name="Text Box 3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AutoShape 4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Text Box 6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9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4716360" y="476280"/>
            <a:ext cx="4330800" cy="8564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r>
              <a:rPr b="0" lang="fr-FR" sz="16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ICHE BILAN ACTIVITE 1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7" name="Object 16"/>
          <p:cNvGraphicFramePr/>
          <p:nvPr/>
        </p:nvGraphicFramePr>
        <p:xfrm>
          <a:off x="5025960" y="1341360"/>
          <a:ext cx="3795840" cy="536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8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5960" y="1341360"/>
                    <a:ext cx="379584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AutoShape 1"/>
          <p:cNvSpPr/>
          <p:nvPr/>
        </p:nvSpPr>
        <p:spPr>
          <a:xfrm>
            <a:off x="304920" y="304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914400" y="4191120"/>
            <a:ext cx="3003480" cy="541080"/>
          </a:xfrm>
          <a:prstGeom prst="rect">
            <a:avLst/>
          </a:prstGeom>
          <a:solidFill>
            <a:srgbClr val="2a2a8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4 - Un problème technologique à identifier et à résoud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1370160" y="382428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8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427" name="Text Box 9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AutoShape 10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AutoShape 11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Text Box 12"/>
          <p:cNvSpPr/>
          <p:nvPr/>
        </p:nvSpPr>
        <p:spPr>
          <a:xfrm>
            <a:off x="4932360" y="2165400"/>
            <a:ext cx="390672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Quel est le rôle du régulateur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AutoShape 1"/>
          <p:cNvSpPr/>
          <p:nvPr/>
        </p:nvSpPr>
        <p:spPr>
          <a:xfrm>
            <a:off x="304920" y="304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914400" y="4191120"/>
            <a:ext cx="3003480" cy="541080"/>
          </a:xfrm>
          <a:prstGeom prst="rect">
            <a:avLst/>
          </a:prstGeom>
          <a:solidFill>
            <a:srgbClr val="2a2a8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4 - Un problème technologique à identifier et à résoud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7"/>
          <p:cNvSpPr/>
          <p:nvPr/>
        </p:nvSpPr>
        <p:spPr>
          <a:xfrm>
            <a:off x="1370160" y="382428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8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439" name="Text Box 9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AutoShape 10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AutoShape 11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Text Box 12"/>
          <p:cNvSpPr/>
          <p:nvPr/>
        </p:nvSpPr>
        <p:spPr>
          <a:xfrm>
            <a:off x="912960" y="5056200"/>
            <a:ext cx="3003480" cy="1316160"/>
          </a:xfrm>
          <a:prstGeom prst="rect">
            <a:avLst/>
          </a:prstGeom>
          <a:solidFill>
            <a:srgbClr val="0d0d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5 - Des activités d’apprentissage et des supports adaptés qui mènent à la résolution du problème technologique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réflexion / action / évaluations formativ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13"/>
          <p:cNvSpPr/>
          <p:nvPr/>
        </p:nvSpPr>
        <p:spPr>
          <a:xfrm>
            <a:off x="2284560" y="470052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78"/>
          <p:cNvSpPr/>
          <p:nvPr/>
        </p:nvSpPr>
        <p:spPr>
          <a:xfrm>
            <a:off x="4788000" y="620640"/>
            <a:ext cx="38876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Identification du régulateur et de son rô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Recherche sur documentation concernant les accu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réation d’un graphique permettant de visualiser la régulation de la char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7:01:25Z</dcterms:created>
  <dc:creator>Rigaud</dc:creator>
  <dc:description/>
  <dc:language>en-US</dc:language>
  <cp:lastModifiedBy>Jérôme</cp:lastModifiedBy>
  <dcterms:modified xsi:type="dcterms:W3CDTF">2009-02-17T18:08:02Z</dcterms:modified>
  <cp:revision>51</cp:revision>
  <dc:subject/>
  <dc:title>LA TECHNOLOGIE AU COLLEGE</dc:title>
</cp:coreProperties>
</file>