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DD9-5552-43DC-B850-A9F877D3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31A-3822-462B-BAF8-187263C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D09-7AC7-4760-9D3D-AEFBFB8B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263-B725-48B0-967D-8C0814E0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54E1-63FB-4EE5-A509-275BCB68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52FE-99AB-44FA-BEB2-D3F98805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9B5-028E-4C80-9BA2-E7BC34E4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4C01-1319-42FE-9555-0395DC6F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D4D-5D4E-4E70-91FD-914F2D3B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09CD-E824-4B1B-AE83-AFB1AEFD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572-B793-4038-813B-D4C673E9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619-8D64-40E6-9A66-4CB8306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321F-FB55-4A27-93E4-066782A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0781-A44F-4F95-A499-393152D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022-2657-4193-80BC-BC1CDFC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E60-8875-4E97-8EE7-CB901016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BC8-6CDC-48F7-A09C-A3030A8A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195-6F7D-41A8-8CBC-4AA5690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434-40F4-4093-BAC9-8B59AD25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05A-C54B-4967-AA20-69E4BB5E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00C-1EB0-45FD-9B89-43F0650A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B95-919B-4F58-8DCB-46F67FB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32B-345F-4A94-AC2B-696C01F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4BC-D009-4C50-8AF2-4995117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787256-36C2-47DF-BAB6-BE1E34A7604A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7D6391-5B15-4848-8F8B-21097C0E74D0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2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0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732480" cy="52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952880" y="3657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ttre en relation des contraintes que l’objet technique doit respec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5580000" y="836640"/>
            <a:ext cx="23558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traintes liées au fonction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 en parler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4705200" y="404640"/>
            <a:ext cx="4438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ICHE BILAN    ACTIVITE 2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932360" y="1268280"/>
          <a:ext cx="3882960" cy="536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268280"/>
                    <a:ext cx="388296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3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12"/>
          <p:cNvSpPr/>
          <p:nvPr/>
        </p:nvSpPr>
        <p:spPr>
          <a:xfrm>
            <a:off x="4932360" y="2165400"/>
            <a:ext cx="3906720" cy="131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Quelles sont les meilleures  conditions d'utilisations d'un panneau photovoltaïqu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5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4500720" y="0"/>
            <a:ext cx="4643280" cy="65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Faire des essais av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fférentes cellules 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ir les effets prod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Faire varier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uminos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Obscurcir une pa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la cell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Connecter les cell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tre el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chématisation des expériences et ex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80" descr="1"/>
          <p:cNvPicPr/>
          <p:nvPr/>
        </p:nvPicPr>
        <p:blipFill>
          <a:blip r:embed="rId1"/>
          <a:stretch/>
        </p:blipFill>
        <p:spPr>
          <a:xfrm>
            <a:off x="7020000" y="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1" descr="2"/>
          <p:cNvPicPr/>
          <p:nvPr/>
        </p:nvPicPr>
        <p:blipFill>
          <a:blip r:embed="rId2"/>
          <a:stretch/>
        </p:blipFill>
        <p:spPr>
          <a:xfrm>
            <a:off x="6372360" y="126828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2" descr="3"/>
          <p:cNvPicPr/>
          <p:nvPr/>
        </p:nvPicPr>
        <p:blipFill>
          <a:blip r:embed="rId3"/>
          <a:stretch/>
        </p:blipFill>
        <p:spPr>
          <a:xfrm>
            <a:off x="6948360" y="2781360"/>
            <a:ext cx="1940040" cy="1455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3" descr="4"/>
          <p:cNvPicPr/>
          <p:nvPr/>
        </p:nvPicPr>
        <p:blipFill>
          <a:blip r:embed="rId4"/>
          <a:stretch/>
        </p:blipFill>
        <p:spPr>
          <a:xfrm>
            <a:off x="7020000" y="4437000"/>
            <a:ext cx="179532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06T10:58:30Z</dcterms:modified>
  <cp:revision>54</cp:revision>
  <dc:subject/>
  <dc:title>LA TECHNOLOGIE AU COLLEGE</dc:title>
</cp:coreProperties>
</file>