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707-8E46-43E1-BFC3-41AEEC05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BB7-CD1E-4241-AD02-D7AAC72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9C2-F8C7-4641-B8BB-48A22559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67A-20BF-4BA3-88E4-F75B5564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8CCE-3370-4AC6-BCDE-D841D3F0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8487-652D-475E-BBF2-393508F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B03E-AC11-4A8D-9918-21BBCDF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43C0-74FB-47DC-B4AC-AA97A2C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F199-326B-4DD3-AB3F-ED8992E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74E9-6D81-493E-B390-77EA016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6868-B634-49B2-9B98-FD11DD7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656-3296-437E-8456-F41379C3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B31F-7633-4970-9800-E55A888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E041-6FDF-459D-B601-FC34206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1C5-5B53-46E7-BAC1-A3E8020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B409-C2DC-4908-947F-27C292EC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3767-E3AD-48F9-8627-A9BEEEC2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4F2-7CF6-44F7-A60C-CCEA97E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25D-D681-4A4D-9555-7BA939C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9EE-5A86-4A10-94BE-4FE5B5C5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B30-352C-484E-934A-A1FBCD5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EDD-0A51-4913-AA8C-37ED7AD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108-D04C-401E-9702-576EF6F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DBA-254F-43D8-829C-7F939427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891E-942C-4659-9B68-0254C451B7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0445-93F1-42DE-B99E-D55B8A0CEA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385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3280" y="189000"/>
            <a:ext cx="4500720" cy="699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L’ensemble de la production sera évaluée en fin de sé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Croquis de la recherche:</a:t>
            </a: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critère:</a:t>
            </a: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 le croquis est réalisé et montre la traversée par un élément matériel sur deux appui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Impression du pont simulé en C.A.O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critère:</a:t>
            </a: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 la feuille est imprimée, la structure est cohérente et résiste au passage du camion, le pont utilise un minimum d’éléments de construction TB&lt;30 élément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Réalisation de la maquet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critère:</a:t>
            </a: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 la maquette respecte la géométrie du schéma, est effectuée en respectant l’échelle, résiste à l’essai en charge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Évaluation de l’implication dans le travail du groupe</a:t>
            </a: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 (voir fiche observation et autoévalu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800600" y="3048120"/>
            <a:ext cx="4038480" cy="16761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393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152280"/>
            <a:ext cx="4038840" cy="24386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20040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cités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3657600"/>
            <a:ext cx="3657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duire sous la forme de croquis l’organisation structurelle d’un objet techn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304920"/>
            <a:ext cx="3657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naissanc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762120"/>
            <a:ext cx="3657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oquis, schéma, codes de représ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2438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c145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5410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c145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6004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Tahoma"/>
              </a:rPr>
              <a:t>1 Brique élémenta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Tahoma"/>
              </a:rPr>
              <a:t>du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4800600"/>
            <a:ext cx="3657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’item connaissance\capacité est de Niveau 2 : « je sais en perler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4000" y="331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09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380880"/>
            <a:ext cx="4114800" cy="5580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s ponts permettent de franchir des obstacles et doivent tenir compte des contraintes du site et des acteurs qui participent à sa réalis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ls doivent être étudiés et réalisés en fonction 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’util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es contraintes dimensionnel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a nature du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e type de construction (bois, béton, acier, mixte.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ur tout ouvrage et particulièrement les ouvrages métalliques la stabilité sera conditionnée par sa géométrie, ses matériaux et le dimensionnement de ses élé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25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105520" y="2165400"/>
            <a:ext cx="373356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ment franchir le torrent pour approvisionner votre chantier en matériels et matéria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04920" y="304920"/>
            <a:ext cx="4174920" cy="6264000"/>
          </a:xfrm>
          <a:custGeom>
            <a:avLst/>
            <a:gdLst>
              <a:gd name="textAreaLeft" fmla="*/ 203760 w 4174920"/>
              <a:gd name="textAreaRight" fmla="*/ 3971160 w 4174920"/>
              <a:gd name="textAreaTop" fmla="*/ 203760 h 6264000"/>
              <a:gd name="textAreaBottom" fmla="*/ 6060240 h 6264000"/>
            </a:gdLst>
            <a:ahLst/>
            <a:rect l="textAreaLeft" t="textAreaTop" r="textAreaRight" b="textAreaBottom"/>
            <a:pathLst>
              <a:path w="21600" h="32407">
                <a:moveTo>
                  <a:pt x="3600" y="0"/>
                </a:moveTo>
                <a:arcTo wR="3600" hR="3600" stAng="16200000" swAng="-5400000"/>
                <a:lnTo>
                  <a:pt x="0" y="28807"/>
                </a:lnTo>
                <a:arcTo wR="3600" hR="3600" stAng="10800000" swAng="-5400000"/>
                <a:lnTo>
                  <a:pt x="18000" y="3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5c6c">
              <a:alpha val="4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00000" y="3729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truction de la séance par l’enseign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2960" y="977760"/>
            <a:ext cx="3003480" cy="797040"/>
          </a:xfrm>
          <a:prstGeom prst="rect">
            <a:avLst/>
          </a:prstGeom>
          <a:solidFill>
            <a:srgbClr val="c1c1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- Des connaissances et des capacités du programme à faire acquér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c145"/>
                </a:solidFill>
                <a:latin typeface="Arial"/>
              </a:rPr>
              <a:t>Quelles briques élémentaires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2143080"/>
            <a:ext cx="1600200" cy="1755720"/>
          </a:xfrm>
          <a:prstGeom prst="rect">
            <a:avLst/>
          </a:prstGeom>
          <a:solidFill>
            <a:srgbClr val="8686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- Une structu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onnaissa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ynthè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tenant compte du niveau d’approfondisse-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78740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0033cc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4191120"/>
            <a:ext cx="3003480" cy="541080"/>
          </a:xfrm>
          <a:prstGeom prst="rect">
            <a:avLst/>
          </a:prstGeom>
          <a:solidFill>
            <a:srgbClr val="2a2a8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- Un problème technologique à identifier et à résoud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70160" y="382428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27280" y="1787400"/>
            <a:ext cx="1517760" cy="2451240"/>
            <a:chOff x="2627280" y="1787400"/>
            <a:chExt cx="1517760" cy="2451240"/>
          </a:xfrm>
        </p:grpSpPr>
        <p:sp>
          <p:nvSpPr>
            <p:cNvPr id="437" name=""/>
            <p:cNvSpPr/>
            <p:nvPr/>
          </p:nvSpPr>
          <p:spPr>
            <a:xfrm>
              <a:off x="2627280" y="2143080"/>
              <a:ext cx="1517760" cy="1755720"/>
            </a:xfrm>
            <a:prstGeom prst="rect">
              <a:avLst/>
            </a:prstGeom>
            <a:solidFill>
              <a:srgbClr val="4646c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- Une évaluation somm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ée sur les connaissances et les capacités de 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13080" y="178740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98960" y="3824280"/>
              <a:ext cx="290520" cy="414360"/>
            </a:xfrm>
            <a:prstGeom prst="downArrow">
              <a:avLst>
                <a:gd name="adj1" fmla="val 50000"/>
                <a:gd name="adj2" fmla="val 35657"/>
              </a:avLst>
            </a:prstGeom>
            <a:solidFill>
              <a:srgbClr val="333399"/>
            </a:solidFill>
            <a:ln w="9360">
              <a:solidFill>
                <a:srgbClr val="0d0d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912960" y="5056200"/>
            <a:ext cx="3003480" cy="1316160"/>
          </a:xfrm>
          <a:prstGeom prst="rect">
            <a:avLst/>
          </a:prstGeom>
          <a:solidFill>
            <a:srgbClr val="0d0d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 - Des activités d’apprentissage et des supports adaptés qui mènent à la résolution du problème technologiqu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réflexion / action / évaluations formati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84560" y="4700520"/>
            <a:ext cx="290520" cy="414360"/>
          </a:xfrm>
          <a:prstGeom prst="downArrow">
            <a:avLst>
              <a:gd name="adj1" fmla="val 50000"/>
              <a:gd name="adj2" fmla="val 35657"/>
            </a:avLst>
          </a:prstGeom>
          <a:solidFill>
            <a:srgbClr val="333399"/>
          </a:solidFill>
          <a:ln w="9360">
            <a:solidFill>
              <a:srgbClr val="0d0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1905120"/>
            <a:ext cx="3124080" cy="407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’élèv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éalise un croquis de sa solution sur feuille échange avec son groupe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sine et simule avec le logiciel « West Point Bridge Designer » qui détermine si la solution technique est correc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roup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réalise ensuite la maquette à l’échelle du  pont choi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01:25Z</dcterms:created>
  <dc:creator>Rigaud</dc:creator>
  <dc:description/>
  <dc:language>en-US</dc:language>
  <cp:lastModifiedBy>tartaret</cp:lastModifiedBy>
  <dcterms:modified xsi:type="dcterms:W3CDTF">2009-02-16T13:50:18Z</dcterms:modified>
  <cp:revision>43</cp:revision>
  <dc:subject/>
  <dc:title>LA TECHNOLOGIE AU COLLEGE</dc:title>
</cp:coreProperties>
</file>