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626-B56A-4A65-BE60-1D5062B8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616-9665-4E32-8E88-739B5D95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717-E09D-4904-98E7-DB6A1D92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823-00DB-455C-8B7D-031E154F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72E7-99F4-4ADC-8026-3F08291E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AA23-9E4A-4C8B-A15D-8E188858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6C2B-3608-4399-B421-01D5F115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C2FD-16C6-4E9C-A707-FCC910AD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3685-C7E5-44F8-ACDE-4EA04C63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DD0F-886D-4ECE-B405-1A2E197B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3DCB-51E0-4AF6-A233-AB360152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E51-BA03-4E70-9877-4C2F83CB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6AB2-49F1-49A2-B3B5-83FB183E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63AB-F320-4E4D-A7F5-3012FA99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BDB4-BADE-487C-BD0C-318A8CE2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134A-D763-40ED-8D57-E91129C1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C2E0-5B85-4E5C-BE76-B2363AC2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7D2-B695-4A15-A82F-D0193D64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335-B293-46A9-9B6F-65437DDB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02F-383F-42EC-9F7B-AE6EE882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E84-3242-473B-B7F8-971C8068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0FB-7008-4098-AFC3-1E440A33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AEB-371F-4BFB-AD75-A498CDEC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5AE-8A8C-43BF-BF0C-EA4D0DB2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3240"/>
            <a:ext cx="17543160" cy="13690440"/>
            <a:chOff x="-8410320" y="32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32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0D09-9B88-48E3-A5E9-D83ED00DC81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9800" y="1461960"/>
            <a:ext cx="16903800" cy="10794600"/>
            <a:chOff x="-7759800" y="1461960"/>
            <a:chExt cx="1690380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9800" y="146196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5"/>
                  </a:moveTo>
                  <a:arcTo wR="10800" hR="10800" stAng="-4763526" swAng="4763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5"/>
                  </a:moveTo>
                  <a:arcTo wR="10800" hR="10800" stAng="-4763526" swAng="476352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8697-A79C-48D9-9733-055943A740F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50880" y="2533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 démarche de résolution de problème techniq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13240" y="77760"/>
            <a:ext cx="2739960" cy="378000"/>
          </a:xfrm>
          <a:prstGeom prst="rect">
            <a:avLst/>
          </a:prstGeom>
          <a:gradFill rotWithShape="0">
            <a:gsLst>
              <a:gs pos="0">
                <a:srgbClr val="7e7e4b"/>
              </a:gs>
              <a:gs pos="100000">
                <a:srgbClr val="ffff99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tuation problè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13240" y="687240"/>
            <a:ext cx="2739960" cy="621000"/>
          </a:xfrm>
          <a:prstGeom prst="rect">
            <a:avLst/>
          </a:prstGeom>
          <a:gradFill rotWithShape="0">
            <a:gsLst>
              <a:gs pos="0">
                <a:srgbClr val="7e6500"/>
              </a:gs>
              <a:gs pos="100000">
                <a:srgbClr val="ffcc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icitation du problème pos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560" y="1601640"/>
            <a:ext cx="3667320" cy="357480"/>
          </a:xfrm>
          <a:prstGeom prst="rect">
            <a:avLst/>
          </a:prstGeom>
          <a:gradFill rotWithShape="0">
            <a:gsLst>
              <a:gs pos="0">
                <a:srgbClr val="65657e"/>
              </a:gs>
              <a:gs pos="100000">
                <a:srgbClr val="ccccff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lème technique à résoud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0" y="6478560"/>
            <a:ext cx="9141120" cy="378000"/>
          </a:xfrm>
          <a:prstGeom prst="rect">
            <a:avLst/>
          </a:prstGeom>
          <a:gradFill rotWithShape="0">
            <a:gsLst>
              <a:gs pos="0">
                <a:srgbClr val="7e7e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ur chaque activité,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n bila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st réalisé pour répondre au problème pos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60" y="0"/>
            <a:ext cx="2971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démarche de résolution d’un problème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30840" y="687240"/>
            <a:ext cx="2359080" cy="378000"/>
          </a:xfrm>
          <a:prstGeom prst="rect">
            <a:avLst/>
          </a:prstGeom>
          <a:gradFill rotWithShape="0">
            <a:gsLst>
              <a:gs pos="0">
                <a:srgbClr val="7e6500"/>
              </a:gs>
              <a:gs pos="100000">
                <a:srgbClr val="ffcc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560" y="2287440"/>
            <a:ext cx="3667320" cy="357480"/>
          </a:xfrm>
          <a:prstGeom prst="rect">
            <a:avLst/>
          </a:prstGeom>
          <a:gradFill rotWithShape="0">
            <a:gsLst>
              <a:gs pos="0">
                <a:srgbClr val="65657e"/>
              </a:gs>
              <a:gs pos="100000">
                <a:srgbClr val="ccccff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ité(s) élè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1601640"/>
            <a:ext cx="1978200" cy="378000"/>
          </a:xfrm>
          <a:prstGeom prst="rect">
            <a:avLst/>
          </a:prstGeom>
          <a:gradFill rotWithShape="0">
            <a:gsLst>
              <a:gs pos="0">
                <a:srgbClr val="7e6500"/>
              </a:gs>
              <a:gs pos="100000">
                <a:srgbClr val="ffcc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ées élèv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8840" y="3249720"/>
            <a:ext cx="2230200" cy="896760"/>
          </a:xfrm>
          <a:prstGeom prst="rect">
            <a:avLst/>
          </a:prstGeom>
          <a:gradFill rotWithShape="0">
            <a:gsLst>
              <a:gs pos="0">
                <a:srgbClr val="657e65"/>
              </a:gs>
              <a:gs pos="100000">
                <a:srgbClr val="ccffcc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’identifie le niveau de réponse attend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07200" y="3249720"/>
            <a:ext cx="2630520" cy="896760"/>
          </a:xfrm>
          <a:prstGeom prst="rect">
            <a:avLst/>
          </a:prstGeom>
          <a:gradFill rotWithShape="0">
            <a:gsLst>
              <a:gs pos="0">
                <a:srgbClr val="657e65"/>
              </a:gs>
              <a:gs pos="100000">
                <a:srgbClr val="ccffcc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’identifie les types de résolution possi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43000" y="2057400"/>
            <a:ext cx="1905120" cy="380880"/>
            <a:chOff x="1143000" y="2057400"/>
            <a:chExt cx="1905120" cy="380880"/>
          </a:xfrm>
        </p:grpSpPr>
        <p:sp>
          <p:nvSpPr>
            <p:cNvPr id="101" name=""/>
            <p:cNvSpPr/>
            <p:nvPr/>
          </p:nvSpPr>
          <p:spPr>
            <a:xfrm>
              <a:off x="1143000" y="243828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143000" y="2057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>
            <a:off x="2209320" y="175248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73520" y="4497480"/>
            <a:ext cx="4443120" cy="377640"/>
          </a:xfrm>
          <a:prstGeom prst="rect">
            <a:avLst/>
          </a:prstGeom>
          <a:gradFill rotWithShape="0">
            <a:gsLst>
              <a:gs pos="0">
                <a:srgbClr val="fecbcb"/>
              </a:gs>
              <a:gs pos="100000">
                <a:srgbClr val="ff00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’applique une méthode de ré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5840" y="5097600"/>
            <a:ext cx="1582920" cy="844560"/>
          </a:xfrm>
          <a:prstGeom prst="rect">
            <a:avLst/>
          </a:prstGeom>
          <a:gradFill rotWithShape="0">
            <a:gsLst>
              <a:gs pos="0">
                <a:srgbClr val="fecbcb"/>
              </a:gs>
              <a:gs pos="100000">
                <a:srgbClr val="ff00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l’observatio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des docu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0" y="5183280"/>
            <a:ext cx="4415040" cy="987480"/>
          </a:xfrm>
          <a:prstGeom prst="rect">
            <a:avLst/>
          </a:prstGeom>
          <a:gradFill rotWithShape="0">
            <a:gsLst>
              <a:gs pos="0">
                <a:srgbClr val="fecbcb"/>
              </a:gs>
              <a:gs pos="100000">
                <a:srgbClr val="ff00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e compare les résultats attendus et je justifie mon cho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24360" y="618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5840" y="3249720"/>
            <a:ext cx="2230560" cy="896760"/>
          </a:xfrm>
          <a:prstGeom prst="rect">
            <a:avLst/>
          </a:prstGeom>
          <a:gradFill rotWithShape="0">
            <a:gsLst>
              <a:gs pos="0">
                <a:srgbClr val="657e65"/>
              </a:gs>
              <a:gs pos="100000">
                <a:srgbClr val="ccffcc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’identifie les contrai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705360" y="1142640"/>
            <a:ext cx="1143360" cy="609840"/>
            <a:chOff x="6705360" y="1142640"/>
            <a:chExt cx="1143360" cy="609840"/>
          </a:xfrm>
        </p:grpSpPr>
        <p:sp>
          <p:nvSpPr>
            <p:cNvPr id="110" name=""/>
            <p:cNvSpPr/>
            <p:nvPr/>
          </p:nvSpPr>
          <p:spPr>
            <a:xfrm flipH="1">
              <a:off x="6705360" y="175248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848720" y="114264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0" y="4319640"/>
            <a:ext cx="976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’util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7200" y="3581280"/>
            <a:ext cx="433440" cy="728640"/>
            <a:chOff x="457200" y="3581280"/>
            <a:chExt cx="433440" cy="728640"/>
          </a:xfrm>
        </p:grpSpPr>
        <p:sp>
          <p:nvSpPr>
            <p:cNvPr id="114" name=""/>
            <p:cNvSpPr/>
            <p:nvPr/>
          </p:nvSpPr>
          <p:spPr>
            <a:xfrm flipH="1">
              <a:off x="457200" y="3581280"/>
              <a:ext cx="4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3581280"/>
              <a:ext cx="0" cy="72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800600" y="4572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130968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981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390760" y="4719600"/>
            <a:ext cx="509760" cy="695520"/>
            <a:chOff x="2390760" y="4719600"/>
            <a:chExt cx="509760" cy="695520"/>
          </a:xfrm>
        </p:grpSpPr>
        <p:sp>
          <p:nvSpPr>
            <p:cNvPr id="121" name=""/>
            <p:cNvSpPr/>
            <p:nvPr/>
          </p:nvSpPr>
          <p:spPr>
            <a:xfrm>
              <a:off x="2560680" y="4719600"/>
              <a:ext cx="33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60680" y="4719600"/>
              <a:ext cx="0" cy="69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90760" y="541512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550960" y="5386320"/>
            <a:ext cx="406440" cy="405000"/>
            <a:chOff x="2550960" y="5386320"/>
            <a:chExt cx="406440" cy="405000"/>
          </a:xfrm>
        </p:grpSpPr>
        <p:sp>
          <p:nvSpPr>
            <p:cNvPr id="125" name=""/>
            <p:cNvSpPr/>
            <p:nvPr/>
          </p:nvSpPr>
          <p:spPr>
            <a:xfrm>
              <a:off x="2550960" y="5791320"/>
              <a:ext cx="40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50960" y="5386320"/>
              <a:ext cx="0" cy="40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57200" y="4724280"/>
            <a:ext cx="457200" cy="762120"/>
            <a:chOff x="457200" y="4724280"/>
            <a:chExt cx="457200" cy="762120"/>
          </a:xfrm>
        </p:grpSpPr>
        <p:sp>
          <p:nvSpPr>
            <p:cNvPr id="128" name=""/>
            <p:cNvSpPr/>
            <p:nvPr/>
          </p:nvSpPr>
          <p:spPr>
            <a:xfrm>
              <a:off x="457200" y="5486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72428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824360" y="4890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87640" y="2647800"/>
            <a:ext cx="4680" cy="605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19680" y="4186080"/>
            <a:ext cx="1440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048040" y="2674800"/>
            <a:ext cx="2757240" cy="554040"/>
            <a:chOff x="2048040" y="2674800"/>
            <a:chExt cx="2757240" cy="554040"/>
          </a:xfrm>
        </p:grpSpPr>
        <p:sp>
          <p:nvSpPr>
            <p:cNvPr id="134" name=""/>
            <p:cNvSpPr/>
            <p:nvPr/>
          </p:nvSpPr>
          <p:spPr>
            <a:xfrm>
              <a:off x="2057400" y="293832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48040" y="2921040"/>
              <a:ext cx="275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791240" y="267480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1520" y="2687400"/>
            <a:ext cx="3029040" cy="555840"/>
            <a:chOff x="4781520" y="2687400"/>
            <a:chExt cx="3029040" cy="555840"/>
          </a:xfrm>
        </p:grpSpPr>
        <p:sp>
          <p:nvSpPr>
            <p:cNvPr id="138" name=""/>
            <p:cNvSpPr/>
            <p:nvPr/>
          </p:nvSpPr>
          <p:spPr>
            <a:xfrm>
              <a:off x="7799400" y="295272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781520" y="2936880"/>
              <a:ext cx="302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797360" y="2687400"/>
              <a:ext cx="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800600" y="4171680"/>
            <a:ext cx="2743200" cy="300240"/>
            <a:chOff x="4800600" y="4171680"/>
            <a:chExt cx="2743200" cy="300240"/>
          </a:xfrm>
        </p:grpSpPr>
        <p:sp>
          <p:nvSpPr>
            <p:cNvPr id="142" name=""/>
            <p:cNvSpPr/>
            <p:nvPr/>
          </p:nvSpPr>
          <p:spPr>
            <a:xfrm flipH="1">
              <a:off x="4809960" y="4362480"/>
              <a:ext cx="273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543800" y="417168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0600" y="4352760"/>
              <a:ext cx="20520" cy="1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938240" y="4122360"/>
            <a:ext cx="2901600" cy="371880"/>
            <a:chOff x="1938240" y="4122360"/>
            <a:chExt cx="2901600" cy="371880"/>
          </a:xfrm>
        </p:grpSpPr>
        <p:sp>
          <p:nvSpPr>
            <p:cNvPr id="146" name=""/>
            <p:cNvSpPr/>
            <p:nvPr/>
          </p:nvSpPr>
          <p:spPr>
            <a:xfrm>
              <a:off x="1938240" y="4357800"/>
              <a:ext cx="2890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40040" y="4122360"/>
              <a:ext cx="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17880" y="4346640"/>
              <a:ext cx="2196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24160" y="474840"/>
            <a:ext cx="3397320" cy="915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ent acheminer les engins de l’autre coté du torren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0600" y="1330200"/>
            <a:ext cx="5359320" cy="64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 avec les élèves pour identifier la fonction de service concernée (franchisseme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62280" y="1981080"/>
            <a:ext cx="6189480" cy="366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ancer un pont provisoire au dessus du torrent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641600"/>
            <a:ext cx="5052960" cy="4481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ype de structur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nt provisoire pour le passage d’engins de chanti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tuation de la structu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La distance à franchir est de 44 mètres à une hauteur de 24 mèt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Les appuis seront posés sur le roc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rai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te tenu des compétences de l’entreprise un pont à structure métallique est préfé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65880" y="4186080"/>
            <a:ext cx="3465360" cy="641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solution à réaliser avec les matériaux à ma dis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74800" y="4095720"/>
            <a:ext cx="4853160" cy="21556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élève réalise un croquis de sa solution sur feuille échange avec son groupe ,dessine et simule avec le logiciel « West Point Bridge Designer » qui détermine si sa solution technique est correc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groupe réalise ensuite la maquette à l’échelle de son po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1068480"/>
            <a:ext cx="5762520" cy="511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s ponts permettent de franchir des obstacles et doivent tenir compte des contraintes du site et des acteurs qui participent à sa réalis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Ils doivent être étudiés et réalisés en fonction 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-L’util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s contraintes dimensionnel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a nature du 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 type de construction (bois, béton, acier, mixte..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our tout ouvrage et particulièrement les ouvrages métalliques la stabilité sera conditionnée par sa géométrie, ses matériaux et le dimensionnement de ses élé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51000" y="5037120"/>
            <a:ext cx="4853160" cy="64116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essai de pont sur la maquette est réalisé pour valider la solu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9:34:50Z</dcterms:created>
  <dc:creator>Régis Rigaud</dc:creator>
  <dc:description/>
  <dc:language>en-US</dc:language>
  <cp:lastModifiedBy>tartaret</cp:lastModifiedBy>
  <dcterms:modified xsi:type="dcterms:W3CDTF">2009-02-16T13:52:50Z</dcterms:modified>
  <cp:revision>54</cp:revision>
  <dc:subject/>
  <dc:title>Présentation PowerPoint</dc:title>
</cp:coreProperties>
</file>